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b2b2b2"/>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3DEA-C538-425F-88F4-3602246FA9A6}" type="slidenum">
              <a:rPr b="0" lang="pt-BR" sz="1200" spc="-1" strike="noStrike">
                <a:solidFill>
                  <a:srgbClr val="b2b2b2"/>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 termos educacionais, só com esse modelo dá para realizar o  processo descrito pelo professor Valente da Unicamp como o ciclo da descrição-execução-reflexão-depuraçã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se a Educação corporativa tem por objetivo primeiro desenvolver as competências básicas nos ambientes negociais, a gente tem que analisar as vantagens da EAD corporativa no modelo de ambientes virtuais de aprendizagem colaborativ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A tecnologia permitiu que se recriasse a situação dialógica que leva à aprendizag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2- Ao usar um site de busca  para ampliar uma informação, discuti-la via e-mail com o professor e  criar um lista de discussões para debater a questão com os colegas,  o aluno realiza uma série de atividades intelectuais complexas reflexão, argumentação e resolução de problemas. E está assumindo o controle de seu aprendizad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Conceito de administração que se aplica à EAD já que o aluno pode aprofundar os temas de acordo com suas necessidades e interesses. E isso numa empresa é importantíssimo, já que, ao contrário de uma escola tradicional, onde os alunos geralmente têm uma formação anterior muito parecida, no trabalho o background é muito heterogêneo. A EAD permite respeitar o ritmo de aprendizagem de cada u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A flexibilidade tb. permite customizar os cursos...Ao fazer um curso sob medida, é possível valorizar  a experiência de um funcionário que pode atuar como tutor. Num curso seguinte, ele vai ser aluno, e essa troca de posições favorece o espírito de equipe e o desenvolvimento de liderança.</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troca de experiências transforma conteúdos crus (teoria)  em conhecimento prático, com interpretações do mundo real e aplicação do conhecimento no próprio negócio. Num curso de matemática financeira, por exemplo, os alunos podem discutir a formação de preços da empresa e criar simulações a partir dos dados com que trabalham.  Isso tudo fica registrado, ao contrário de um curso presencial, onde as discussões se perdem e o conhecimento fica só com o funcionário. Assim como explica o editor americano Thomas Stewart, o registro transforma o capital intelectual em capital estrutural da empres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 isso permite formar um banco de dado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 dos maiores especialistas em educação corporativa, o americano Duncan Lennox, destaca que a EAD não só reduz custos, mas gera receitas. Como: a diminuir o custo de execução do conhecimento – da formação de turmas à atualização dos conteúdos tudo ganha velocidade com a EAD. Desde que a NoKia adotou EAD os lançamentos de produtos foram antecipado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 cálculo é da professora Mirlei Fávaro, da FIA-USP, e se baseia principalmente no “peopleware”, termo que o professor Wilson Azevedo popularizou. Ou seja, equipe multiprofissional necessária para produzir os cursos on line, além de professores e turores treinados para dar apoio aos alunos.Quando replica “n” vezes, o investimento compensa.</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sso significa que o RH deve ser tratado como  uma área de negócios que cuida do principal capital da empresa: o funcionári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 RH vai mapear as necessidades de qualificação profissional de cada setor. E propor um projeto pedagógico para a empres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a definição desse projeto precisa ficar muito claro o que se quer ensinar, prá quem e aonde se quer chega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sso evita que muitas empresas comprem um software achando que estão adquirindo uma solução de e-learning, que é o nome da EAD no mundo empresari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ó a partir do projeto pedagógico é que a empresa pode pensar em adquirir tecnologia.Muita gente vem perdendo dinheiro por comprar LMS (learning, management systems) caríssimos e depois descobrir que não era nada daquilo que precisava.  E com um projeto pedagógico bem definido, é possível implantar o e-learning de forma gradual, porque a tecnologia é modular hoje em dia. E vem caindo de preço, ou seja, um projeto modular feito em 3 anos, por exemplo, sai bem mais em conta do que comprar tudo de uma vez.</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utra vantagem da implantação gradual é que diminui as resistências ao novo e permite trabalhar um ambiente favorável ao processo de aprendizagem contínua. O que não dá é simplesmente colocar um curso na rede a cahr que todo mundo vai ador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o processo de implantação do e-learning, a parceira é a palavra-chave. Internamente, é preciso discutir com as áreas os conteúdos de interesse e a formatação dos cursos. Assim uma equipe ideal para discussão é composta por alguém do RH, da área em questão e um especialista em educação. A participação de funcionários como tutores dá excelentes resultado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 parceria externa, com o apoio de universidades, é uma opção cada vez mais comum nas empresas. A Siemens é parceira da PUC do Paraná, a Petrobrás tem um mestrado desenvolvido com a Federal de Santa Catarina, a Datasul montou um curso sequencial com a estadual de Santa Catarina.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tb não dá para pensar que a EAD vai acabar com o ensino presencial, mesmo nas empresas. O “olho no olho” é fundamental quando se trata de consolidar os valores da organização, por exemplo.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como vimos logo no começo, Universidade Corporativa não é uma ameaça às Universidades convencionais – elas se completa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verdade, quando a gente pensa nas possibilidades abertas pela tecnologia ao desenvolvimento da educação a distância, e tudo o que ainda vem por aí,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conhecimento hoje é um diferencial de mercado. Por que? Porque o desenvolvimento  tecnológico fez  com que  máquinas e equipamentos ficassem cada vez mais acessívei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isso transferiu para o trabalhador, a capacidade de agregar valor aos negócios. Assim, o capital humano acabou se transformando no principal ativo das empresas.Hoje é o Conhecimento que o funcionário coloca a serviço da empresa que faz toda a diferenç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sse contexto, a educação passa a ser encarada pelas empresas como um investimento que garante a competitividade dos negócio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r de um estudo feito para a Organização para a Cooperação e Desenvolvimento Econômico, em 1994 um astrofísico francês chegou à conclusão de que o conhecimento humano dobra a cada 18 meses. Concordando ou não com esse número, o certo é que o desenvolvimento científico e tecnológico chegou a tal ponto que a todo instante surgem novas teorias e descobertas que obrigam as pessoas e rever conceitos, a reavaliar teoria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diploma universitário, que antes era a garantia do saber por toda uma vida, agora passa a ser o primeiro passo numa vida toda de aprendizagem. Assim, o trabalhador se transforma num eterno aprendiz.</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dos do departamento de educação americano mostram que as empresas gastem cerca de 60 bilhões de dólares ao ano com educação no local de trabalho.</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Brasil, não temos estatísticas mas dois números dão a dimensão desses investimento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gundo trabalho da professora Marisa Éboli, publicado na Revista de Administração da US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aí está a grande diferença com o ensinouniversitário tradicional que busca desenvolver as competências para o mundo do trabalho e para o sucesso das instituições e da comunidade. Por isso ela não briga com a educação formal; ela complementa, já que as competências desenvolvidas são outr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 E que competências são ess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gundo a americana Jeanne Meister, no livro Educação Corporativa, que é a bíblia no assunto são sete as competências essenciais q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 que os trabalhadores precisam desenvolver para garantir a empregabilidade também!)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O que se espera é que o funcionário tenha condições de compreender o seu trabalho e do dos colegas, para formular questões como o que se quer do meu trabalho e como faço para chegar lá. É criar condições para que ele reconheça e saiba onde buscar  e como usar as ferramentas prá alavancar o conhecimen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O trabalho em equipe é quse um dogma hoje nas empresas, o que significa desenvolver a inteligência interpessoal descrita pelo Gardner, que consiste na habilidade de saber ouvir, entender o outro e saber se expressar para compartilhar as melhores práticas em toda a organizaçã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3- Foi-se o tempo em que a direção era a única responsável pela produtividade do negócio. As organizações hoje são menos hierarquizadas, mais flexíveis e, por isso, todos devem estar preparados para identificar os problemas e propor as soluções. E aqui está muito ligado ao ítem 1. Mais prá frente a gente volta a esses itens do ponto de vista educacional.</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1- Para quê? Para pesquisar novos produtos, serviços e ofertas competitivas. Esse é um exemplo desse conhecimento tecnológico, ou seja, ninguém precisa ser um especialista em tecnologia, mas voltando à competência 1, que é o aprender a aprender, é preciso saber usá-la em benefício do trabalh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2- E a mesma coisa aqui – ninguém precisa ser especialista em relações internacionais, mas sem conhecer o quadro global em que se insere a empresa é praticamente impossível criar estratégias, principalmente para quem trabalha em multinacionais e num país como o Brasil que precisa, desesperadamente, aumentar a balança comerci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3- Antigamente a orientação vinha da cúpula para o gerente que repassava aos funcionários. Agora, em vez de serem receptores passivos, os funcionários devem contribuir para o “pensar compartilhado”, ou seja, agen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4- Cabe ao funcionário traçar seu plano de carreira e buscar as qualificações necessárias para alcança-lo</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ssas competências tem que ser estimuladas no dia-a-dia do trabalho. E é muito complicado tirar o funcionário do trabalho toda semana prá fazer um curso. A educação continuada nas empresas tem que fazer parte da rotina. E é por isso que a Educação a Distância cai como uma luva no universo corporativo.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um único ano, de 200 para 2001...</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E aqui é bom deixar claro que estamos falando da EAD mediada por tecnologia interativa, mais especificamente, Internet e Intranet. Essa modalidade de EAD atrai as empresas por 3 características básic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própria definição de EAD nas leis de diretrizes e bases da educação diz que a educação a distância é uma forma de ensino que que possibilita a auto-aprendizagem. Isso significa um público maduro, capaz de definir o que precisa saber e buscar a informação. E esse é o perfil do aluno no mundo do trabalh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 qualquer hora, em qualquer lugar, é um exagero claro, mas a expressão dá o sentido de flexibilidade que permite que o funcionário dedique x horas por semana ao aprendizado, ali mesmo, na mesa de trabalho, logo cedo, no horário do almoço, no fim do expedien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E isso se reflete imediatamente nos custos da educação, porqu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Numa empresa com várias filias, dá para atender, com um mesmo curso, pessoas de cidades e até países diferentes.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 broadcasting, em que a tecnologia é usada para repassar informações a um número ilimitado de pessoas, e que a interatividade se limita a responder testes, pode servir para um treinamento superficial. Mas nunca vai desenvolver as competências essenciais ao ambiente de negócio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isso, o modelo de EAD tem que ser o construtivist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tando ao slide ... Nós vemos que essas competências do mundo do trabalho  são muito parecidas com aquelas que se pretende estimular no aluno dentro de um novo paradigma da Educação em que o professor e o aluno constroem juntos o conhecimento. O resultado é a formação de um sujeito crítico e autônom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05998-1CFB-4178-A584-64099CD8B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5401-F988-4C49-B0AC-96A6B6EA2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202DF-2E6E-4FC7-A8B8-F734E1F1E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C9531-45E2-4D8A-B12E-79B4DB8DD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BC520-84BB-4AFD-A598-F0926AFB8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1D76A-EA0F-4030-AEB3-DF02D3258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CCEC3-E412-4E04-938A-42AD0FC28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58D79-53A7-4E44-8AED-1CB45AE7A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0E9E4-8CA6-423E-B611-12F7E16EF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70F30-72D0-4AA5-8E7C-6B3EB5E22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0BF25-A47C-47A3-A1E4-1C5D59FFB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FB39-7C44-4F8B-AA2F-ACBBC5BC3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3A2B-DAD5-4966-8C1D-BECDADCA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854B-2FA1-41EA-B3D7-C9C7D07AE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4C494-41F1-4831-B9D0-E83698E89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9A0C4-DB5C-4F8E-AE84-CAD5C66CB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9303A-C469-4871-ADCB-79DFC5070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6437-D9F1-4F5A-9EDE-658BE0FC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9330-81EC-445B-8C72-9CD808CA4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8DE2-798F-462D-9451-6C608CBE9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D41F-49AB-4D0C-99F3-6D8F2BDC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A7FD-AEC1-4012-9E93-3BC7357C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EB83-3A50-430A-92D8-C7B18012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1A8B-C494-41CA-8CC1-2FB02EAF5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99ccff"/>
                </a:gs>
                <a:gs pos="100000">
                  <a:srgbClr val="46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162D-5D59-49A8-876D-A4BAD34F5B61}" type="slidenum">
              <a:rPr b="0" lang="pt-BR"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99ccff"/>
                </a:gs>
                <a:gs pos="100000">
                  <a:srgbClr val="46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588A-FE42-45CC-8ECD-6751A0F2E921}" type="slidenum">
              <a:rPr b="0" lang="pt-B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2f5e"/>
            </a:gs>
            <a:gs pos="100000">
              <a:srgbClr val="0066cc"/>
            </a:gs>
          </a:gsLst>
          <a:lin ang="5400000"/>
        </a:gra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9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686160" y="2438280"/>
            <a:ext cx="845820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br>
              <a:rPr sz="3600"/>
            </a:br>
            <a:r>
              <a:rPr b="0" lang="en-US" sz="3600" spc="-1" strike="noStrike">
                <a:solidFill>
                  <a:srgbClr val="ffff00"/>
                </a:solidFill>
                <a:latin typeface="Arial"/>
              </a:rPr>
              <a:t>          </a:t>
            </a:r>
            <a:r>
              <a:rPr b="0" lang="en-US" sz="3200" spc="-1" strike="noStrike">
                <a:solidFill>
                  <a:srgbClr val="ffff00"/>
                </a:solidFill>
                <a:latin typeface="Arial"/>
              </a:rPr>
              <a:t>Educação a Distância:</a:t>
            </a:r>
            <a:br>
              <a:rPr sz="2800"/>
            </a:br>
            <a:r>
              <a:rPr b="0" lang="en-US" sz="2800" spc="-1" strike="noStrike">
                <a:solidFill>
                  <a:srgbClr val="ffff00"/>
                </a:solidFill>
                <a:latin typeface="Arial"/>
              </a:rPr>
              <a:t>                    </a:t>
            </a:r>
            <a:r>
              <a:rPr b="0" lang="en-US" sz="2400" spc="-1" strike="noStrike">
                <a:solidFill>
                  <a:srgbClr val="ffff00"/>
                </a:solidFill>
                <a:latin typeface="Arial"/>
              </a:rPr>
              <a:t>Ferramenta Sob Medida</a:t>
            </a:r>
            <a:br>
              <a:rPr sz="2400"/>
            </a:br>
            <a:r>
              <a:rPr b="0" lang="en-US" sz="2400" spc="-1" strike="noStrike">
                <a:solidFill>
                  <a:srgbClr val="ffff00"/>
                </a:solidFill>
                <a:latin typeface="Arial"/>
              </a:rPr>
              <a:t>                    Para o Ensino Corporativo</a:t>
            </a:r>
            <a:br>
              <a:rPr sz="3600"/>
            </a:br>
            <a:r>
              <a:rPr b="0" lang="en-US" sz="3600" spc="-1" strike="noStrike">
                <a:solidFill>
                  <a:srgbClr val="ffff00"/>
                </a:solidFill>
                <a:latin typeface="Arial"/>
              </a:rPr>
              <a:t>     </a:t>
            </a:r>
            <a:r>
              <a:rPr b="0" lang="en-US" sz="1400" spc="-1" strike="noStrike">
                <a:solidFill>
                  <a:srgbClr val="ffff00"/>
                </a:solidFill>
                <a:latin typeface="Arial"/>
              </a:rPr>
              <a:t>_______________________________________________________________________</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2000" spc="-1" strike="noStrike">
                <a:solidFill>
                  <a:srgbClr val="ffff00"/>
                </a:solidFill>
                <a:latin typeface="Arial"/>
              </a:rPr>
              <a:t>Renata De Luca</a:t>
            </a:r>
            <a:endParaRPr b="0" lang="en-US" sz="2000" spc="-1" strike="noStrike">
              <a:solidFill>
                <a:srgbClr val="ffff00"/>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3716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trutivismo nos Ambientes de Aprendizagem Colaborativa</a:t>
            </a:r>
            <a:endParaRPr b="0" lang="en-US" sz="3600" spc="-1" strike="noStrike">
              <a:solidFill>
                <a:srgbClr val="ffff00"/>
              </a:solidFill>
              <a:latin typeface="Arial"/>
            </a:endParaRPr>
          </a:p>
        </p:txBody>
      </p:sp>
      <p:sp>
        <p:nvSpPr>
          <p:cNvPr id="114" name="PlaceHolder 2"/>
          <p:cNvSpPr>
            <a:spLocks noGrp="1"/>
          </p:cNvSpPr>
          <p:nvPr>
            <p:ph/>
          </p:nvPr>
        </p:nvSpPr>
        <p:spPr>
          <a:xfrm rot="120000">
            <a:off x="761760" y="198108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0" lang="en-US" sz="2400" spc="-1" strike="noStrike">
                <a:solidFill>
                  <a:srgbClr val="ffff00"/>
                </a:solidFill>
                <a:latin typeface="Arial"/>
              </a:rPr>
              <a:t>“</a:t>
            </a:r>
            <a:r>
              <a:rPr b="0" lang="en-US" sz="2400" spc="-1" strike="noStrike">
                <a:solidFill>
                  <a:srgbClr val="ffff00"/>
                </a:solidFill>
                <a:latin typeface="Arial"/>
              </a:rPr>
              <a:t>O aprendiz é parte de um grupo social e deve ter iniciativa para questionar, descobrir e compreender  o mundo a partir de interações com os demais elementos do contexto histórico no qual está inserido. O objetivo do professor é favorecer a convivência social, estimulando a troca de informações em busca da construção de um conhecimento coletivo e compartilhado”</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   </a:t>
            </a:r>
            <a:r>
              <a:rPr b="0" lang="en-US" sz="2000" spc="-1" strike="noStrike">
                <a:solidFill>
                  <a:srgbClr val="ffff00"/>
                </a:solidFill>
                <a:latin typeface="Arial"/>
              </a:rPr>
              <a:t>	</a:t>
            </a:r>
            <a:r>
              <a:rPr b="0" i="1" lang="en-US" sz="1800" spc="-1" strike="noStrike">
                <a:solidFill>
                  <a:srgbClr val="ffff00"/>
                </a:solidFill>
                <a:latin typeface="Arial"/>
              </a:rPr>
              <a:t>Simone Barros e Patrícia Smith Cavalcanti - Projeto Virtus</a:t>
            </a:r>
            <a:endParaRPr b="0" lang="en-US" sz="1800" spc="-1" strike="noStrike">
              <a:solidFill>
                <a:srgbClr val="ffff00"/>
              </a:solidFill>
              <a:latin typeface="Times New Roman"/>
            </a:endParaRPr>
          </a:p>
        </p:txBody>
      </p:sp>
      <p:pic>
        <p:nvPicPr>
          <p:cNvPr id="115" name="lred" descr=""/>
          <p:cNvPicPr/>
          <p:nvPr/>
        </p:nvPicPr>
        <p:blipFill>
          <a:blip r:embed="rId1"/>
          <a:stretch/>
        </p:blipFill>
        <p:spPr>
          <a:xfrm>
            <a:off x="1219320" y="1600200"/>
            <a:ext cx="371520" cy="45720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e as Competências Essenciais no Mundo Corporativo</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117"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utonomia Colaborativa</a:t>
            </a:r>
            <a:endParaRPr b="0" lang="en-US" sz="2800" spc="-1" strike="noStrike">
              <a:solidFill>
                <a:srgbClr val="ffff00"/>
              </a:solidFill>
              <a:latin typeface="Times New Roman"/>
            </a:endParaRPr>
          </a:p>
          <a:p>
            <a:pPr marL="5335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533520" indent="-53352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ts, fóruns, e-mais, videoconferências – a interação possibilita o diálogo que propicia a aprendizagem</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estimula as seguintes competências: </a:t>
            </a:r>
            <a:endParaRPr b="0" lang="en-US" sz="28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prender a Aprender </a:t>
            </a:r>
            <a:endParaRPr b="0" lang="en-US" sz="20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unicação e Colaboração  </a:t>
            </a:r>
            <a:endParaRPr b="0" lang="en-US" sz="2000" spc="-1" strike="noStrike">
              <a:solidFill>
                <a:srgbClr val="ffff00"/>
              </a:solidFill>
              <a:latin typeface="Times New Roman"/>
            </a:endParaRPr>
          </a:p>
          <a:p>
            <a:pPr lvl="1" marL="914400" indent="-457200">
              <a:lnSpc>
                <a:spcPct val="10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ciocínio Criativo e  Resolução de Problemas</a:t>
            </a:r>
            <a:r>
              <a:rPr b="0" i="1" lang="en-US" sz="2000" spc="-1" strike="noStrike">
                <a:solidFill>
                  <a:srgbClr val="ffff00"/>
                </a:solidFill>
                <a:latin typeface="Arial"/>
              </a:rPr>
              <a:t>   </a:t>
            </a:r>
            <a:endParaRPr b="0" lang="en-US" sz="2000" spc="-1" strike="noStrike">
              <a:solidFill>
                <a:srgbClr val="ffff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e as Competências Essenciais no Mundo Corporativo</a:t>
            </a:r>
            <a:endParaRPr b="0" lang="en-US" sz="3600" spc="-1" strike="noStrike">
              <a:solidFill>
                <a:srgbClr val="ffff00"/>
              </a:solidFill>
              <a:latin typeface="Arial"/>
            </a:endParaRPr>
          </a:p>
        </p:txBody>
      </p:sp>
      <p:sp>
        <p:nvSpPr>
          <p:cNvPr id="119" name="PlaceHolder 2"/>
          <p:cNvSpPr>
            <a:spLocks noGrp="1"/>
          </p:cNvSpPr>
          <p:nvPr>
            <p:ph/>
          </p:nvPr>
        </p:nvSpPr>
        <p:spPr>
          <a:xfrm>
            <a:off x="685800" y="1828800"/>
            <a:ext cx="7772400" cy="464832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lexibilidade</a:t>
            </a:r>
            <a:endParaRPr b="0" lang="en-US" sz="2800" spc="-1" strike="noStrike">
              <a:solidFill>
                <a:srgbClr val="ffff00"/>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st-in-time – puxar conteúdos de acordo com a necessidade; em grupos heterogêneos é fundamental respeitar ritmo de aprendizagem  </a:t>
            </a:r>
            <a:endParaRPr b="0" lang="en-US" sz="2400" spc="-1" strike="noStrike">
              <a:solidFill>
                <a:srgbClr val="ffff00"/>
              </a:solidFill>
              <a:latin typeface="Times New Roman"/>
            </a:endParaRPr>
          </a:p>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mização – conteúdos específicos e valores da organização</a:t>
            </a:r>
            <a:endParaRPr b="0" lang="en-US" sz="2400" spc="-1" strike="noStrike">
              <a:solidFill>
                <a:srgbClr val="ffff00"/>
              </a:solidFill>
              <a:latin typeface="Times New Roman"/>
            </a:endParaRPr>
          </a:p>
          <a:p>
            <a:pPr marL="343080" indent="-343080">
              <a:lnSpc>
                <a:spcPct val="10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flexibilidade estimula as seguintes competências:</a:t>
            </a:r>
            <a:endParaRPr b="0" lang="en-US" sz="24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hecimento Tecnológico</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hecimento de Negócios Globais</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senvolvimento de Lideranças</a:t>
            </a:r>
            <a:endParaRPr b="0" lang="en-US" sz="1800" spc="-1" strike="noStrike">
              <a:solidFill>
                <a:srgbClr val="ffff00"/>
              </a:solidFill>
              <a:latin typeface="Times New Roman"/>
            </a:endParaRPr>
          </a:p>
          <a:p>
            <a:pPr lvl="1" marL="743040" indent="-28584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togerenciamento da Carreira</a:t>
            </a:r>
            <a:endParaRPr b="0" lang="en-US" sz="1800" spc="-1" strike="noStrike">
              <a:solidFill>
                <a:srgbClr val="ffff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ustos – Fator de Atração</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121"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gistro</a:t>
            </a:r>
            <a:r>
              <a:rPr b="1" lang="en-US" sz="3200" spc="-1" strike="noStrike">
                <a:solidFill>
                  <a:srgbClr val="ffff00"/>
                </a:solidFill>
                <a:latin typeface="Arial"/>
              </a:rPr>
              <a:t>: </a:t>
            </a:r>
            <a:r>
              <a:rPr b="0" lang="en-US" sz="2800" spc="-1" strike="noStrike">
                <a:solidFill>
                  <a:srgbClr val="ffff00"/>
                </a:solidFill>
                <a:latin typeface="Arial"/>
              </a:rPr>
              <a:t>transforma capital intelectual em capital estrutural / banco de dados com as melhores práticas</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elocidade: </a:t>
            </a:r>
            <a:r>
              <a:rPr b="0" lang="en-US" sz="2800" spc="-1" strike="noStrike">
                <a:solidFill>
                  <a:srgbClr val="ffff00"/>
                </a:solidFill>
                <a:latin typeface="Arial"/>
              </a:rPr>
              <a:t>reduz o tempo de execução do conhecimento</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conomia de escala:  </a:t>
            </a:r>
            <a:r>
              <a:rPr b="0" lang="en-US" sz="2800" spc="-1" strike="noStrike">
                <a:solidFill>
                  <a:srgbClr val="ffff00"/>
                </a:solidFill>
                <a:latin typeface="Arial"/>
              </a:rPr>
              <a:t>compensa o custo 3,5 vezes maior do que presencial</a:t>
            </a:r>
            <a:endParaRPr b="0" lang="en-US" sz="2800" spc="-1" strike="noStrike">
              <a:solidFill>
                <a:srgbClr val="ffff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3"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missa básica: cultura voltada para aprendizado contínuo.</a:t>
            </a:r>
            <a:endParaRPr b="0" lang="en-US" sz="3200" spc="-1" strike="noStrike">
              <a:solidFill>
                <a:srgbClr val="ffff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H  estratégico.</a:t>
            </a:r>
            <a:endParaRPr b="0" lang="en-US" sz="3200" spc="-1" strike="noStrike">
              <a:solidFill>
                <a:srgbClr val="ffff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ção de um projeto pedagógico.</a:t>
            </a:r>
            <a:endParaRPr b="0" lang="en-US" sz="3200" spc="-1" strike="noStrike">
              <a:solidFill>
                <a:srgbClr val="ffff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5"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jeto pedagógico define a tecnologia.</a:t>
            </a:r>
            <a:endParaRPr b="0" lang="en-US" sz="3200" spc="-1" strike="noStrike">
              <a:solidFill>
                <a:srgbClr val="ffff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cnologia modular permite implantação gradual.</a:t>
            </a:r>
            <a:endParaRPr b="0" lang="en-US" sz="3200" spc="-1" strike="noStrike">
              <a:solidFill>
                <a:srgbClr val="ffff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343080">
              <a:lnSpc>
                <a:spcPct val="90000"/>
              </a:lnSpc>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antação gradual diminui as resistências e permite trabalhar ambiente favorável.</a:t>
            </a:r>
            <a:endParaRPr b="0" lang="en-US" sz="3200" spc="-1" strike="noStrike">
              <a:solidFill>
                <a:srgbClr val="ffff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antação de um Modelo de Sucesso</a:t>
            </a:r>
            <a:endParaRPr b="0" lang="en-US" sz="3600" spc="-1" strike="noStrike">
              <a:solidFill>
                <a:srgbClr val="ffff00"/>
              </a:solidFill>
              <a:latin typeface="Arial"/>
            </a:endParaRPr>
          </a:p>
        </p:txBody>
      </p:sp>
      <p:sp>
        <p:nvSpPr>
          <p:cNvPr id="127"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alavra-chave: Parceria</a:t>
            </a:r>
            <a:endParaRPr b="0" lang="en-US" sz="3200" spc="-1" strike="noStrike">
              <a:solidFill>
                <a:srgbClr val="ffff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lvl="1" marL="743040" indent="-285840">
              <a:lnSpc>
                <a:spcPct val="10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na: áreas de negócios contribuem para a produção de conteúdo e tutoria.</a:t>
            </a:r>
            <a:endParaRPr b="0" lang="en-US" sz="2800" spc="-1" strike="noStrike">
              <a:solidFill>
                <a:srgbClr val="ffff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lvl="1" marL="743040" indent="-285840">
              <a:lnSpc>
                <a:spcPct val="10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rna: know-how das universidades amplia o leque de conhecimento.</a:t>
            </a:r>
            <a:endParaRPr b="0" lang="en-US" sz="2800" spc="-1" strike="noStrike">
              <a:solidFill>
                <a:srgbClr val="ffff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no Universo Corporativo: </a:t>
            </a:r>
            <a:br>
              <a:rPr sz="3600"/>
            </a:br>
            <a:r>
              <a:rPr b="0" lang="en-US" sz="3600" spc="-1" strike="noStrike">
                <a:solidFill>
                  <a:srgbClr val="ffff00"/>
                </a:solidFill>
                <a:latin typeface="Arial"/>
              </a:rPr>
              <a:t>Futuro Promissor</a:t>
            </a:r>
            <a:endParaRPr b="0" lang="en-US" sz="36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dades, empresas de consultoria em educação, e professores têm nas empresas um novo campo de trabalho.</a:t>
            </a:r>
            <a:endParaRPr b="0" lang="en-US" sz="2800" spc="-1" strike="noStrike">
              <a:solidFill>
                <a:srgbClr val="ffff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são não significa o fim do presencial nem das escolas tradicionais.</a:t>
            </a:r>
            <a:endParaRPr b="0" lang="en-US" sz="2800" spc="-1" strike="noStrike">
              <a:solidFill>
                <a:srgbClr val="ffff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ducação Corporativa complementa a institucional.</a:t>
            </a:r>
            <a:endParaRPr b="0" lang="en-US" sz="2800" spc="-1" strike="noStrike">
              <a:solidFill>
                <a:srgbClr val="ffff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13716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Corporativa: Um Novo Espaço de Aprendizagem</a:t>
            </a:r>
            <a:endParaRPr b="0" lang="en-US" sz="3600" spc="-1" strike="noStrike">
              <a:solidFill>
                <a:srgbClr val="ffff00"/>
              </a:solidFill>
              <a:latin typeface="Arial"/>
            </a:endParaRPr>
          </a:p>
        </p:txBody>
      </p:sp>
      <p:sp>
        <p:nvSpPr>
          <p:cNvPr id="131" name="PlaceHolder 2"/>
          <p:cNvSpPr>
            <a:spLocks noGrp="1"/>
          </p:cNvSpPr>
          <p:nvPr>
            <p:ph/>
          </p:nvPr>
        </p:nvSpPr>
        <p:spPr>
          <a:xfrm rot="120000">
            <a:off x="761760" y="1828800"/>
            <a:ext cx="7772400" cy="4114800"/>
          </a:xfrm>
          <a:prstGeom prst="rect">
            <a:avLst/>
          </a:prstGeom>
          <a:solidFill>
            <a:srgbClr val="3333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00"/>
                </a:solidFill>
                <a:latin typeface="Arial"/>
              </a:rPr>
              <a:t>	</a:t>
            </a:r>
            <a:endParaRPr b="0" lang="en-US" sz="20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a:t>
            </a:r>
            <a:r>
              <a:rPr b="0" lang="pt-BR" sz="2400" spc="-1" strike="noStrike">
                <a:solidFill>
                  <a:srgbClr val="ffff00"/>
                </a:solidFill>
                <a:latin typeface="Arial"/>
              </a:rPr>
              <a:t>Todas essa inovações eletrônicas – e-mails, telas compartilhadas, videoconferências e videofones – são maneiras de superar a separação física. Quando se tornarem comuns, terão mudado não apenas o modo de trabalharmos juntos, mas também as distinções feitas entre o local de trabalho e o resto.” </a:t>
            </a:r>
            <a:endParaRPr b="0" lang="en-US" sz="24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   </a:t>
            </a:r>
            <a:r>
              <a:rPr b="1" i="1" lang="pt-BR" sz="2800" spc="-1" strike="noStrike">
                <a:solidFill>
                  <a:srgbClr val="ffff00"/>
                </a:solidFill>
                <a:latin typeface="Arial"/>
              </a:rPr>
              <a:t>	</a:t>
            </a:r>
            <a:r>
              <a:rPr b="0" i="1" lang="pt-BR" sz="2000" spc="-1" strike="noStrike">
                <a:solidFill>
                  <a:srgbClr val="ffff00"/>
                </a:solidFill>
                <a:latin typeface="Arial"/>
              </a:rPr>
              <a:t>           </a:t>
            </a:r>
            <a:r>
              <a:rPr b="0" i="1" lang="pt-BR" sz="2000" spc="-1" strike="noStrike">
                <a:solidFill>
                  <a:srgbClr val="ffff00"/>
                </a:solidFill>
                <a:latin typeface="Arial"/>
              </a:rPr>
              <a:t>Bill Gates, A Estrada do Futuro, p. 193</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132" name="lred" descr=""/>
          <p:cNvPicPr/>
          <p:nvPr/>
        </p:nvPicPr>
        <p:blipFill>
          <a:blip r:embed="rId1"/>
          <a:stretch/>
        </p:blipFill>
        <p:spPr>
          <a:xfrm>
            <a:off x="1219320" y="1447920"/>
            <a:ext cx="371520" cy="457200"/>
          </a:xfrm>
          <a:prstGeom prst="rect">
            <a:avLst/>
          </a:prstGeom>
          <a:ln w="0">
            <a:noFill/>
          </a:ln>
        </p:spPr>
      </p:pic>
    </p:spTree>
  </p:cSld>
  <p:transition spd="slow">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2f5e"/>
            </a:gs>
            <a:gs pos="100000">
              <a:srgbClr val="0066cc"/>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0" y="2438280"/>
            <a:ext cx="777240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                      </a:t>
            </a:r>
            <a:r>
              <a:rPr b="0" lang="pt-BR" sz="3600" spc="-1" strike="noStrike">
                <a:solidFill>
                  <a:srgbClr val="ffff00"/>
                </a:solidFill>
                <a:latin typeface="Arial"/>
              </a:rPr>
              <a:t>Muito obrigada!</a:t>
            </a:r>
            <a:br>
              <a:rPr sz="3600"/>
            </a:br>
            <a:r>
              <a:rPr b="0" lang="pt-BR" sz="1400" spc="-1" strike="noStrike">
                <a:solidFill>
                  <a:srgbClr val="ffff00"/>
                </a:solidFill>
                <a:latin typeface="Arial"/>
              </a:rPr>
              <a:t>____________________________________________________________</a:t>
            </a:r>
            <a:br>
              <a:rPr sz="3600"/>
            </a:br>
            <a:r>
              <a:rPr b="0" lang="pt-BR" sz="3600" spc="-1" strike="noStrike">
                <a:solidFill>
                  <a:srgbClr val="ffff00"/>
                </a:solidFill>
                <a:latin typeface="Arial"/>
              </a:rPr>
              <a:t>                             </a:t>
            </a:r>
            <a:r>
              <a:rPr b="0" lang="pt-BR" sz="2400" spc="-1" strike="noStrike">
                <a:solidFill>
                  <a:srgbClr val="ffff00"/>
                </a:solidFill>
                <a:latin typeface="Arial"/>
              </a:rPr>
              <a:t>Renata De Luca</a:t>
            </a:r>
            <a:br>
              <a:rPr sz="2400"/>
            </a:br>
            <a:r>
              <a:rPr b="0" lang="pt-BR" sz="2400" spc="-1" strike="noStrike">
                <a:solidFill>
                  <a:srgbClr val="ffff00"/>
                </a:solidFill>
                <a:latin typeface="Arial"/>
              </a:rPr>
              <a:t>                                            </a:t>
            </a:r>
            <a:br>
              <a:rPr sz="2400"/>
            </a:br>
            <a:r>
              <a:rPr b="0" lang="pt-BR" sz="2400" spc="-1" strike="noStrike">
                <a:solidFill>
                  <a:srgbClr val="ffff00"/>
                </a:solidFill>
                <a:latin typeface="Arial"/>
              </a:rPr>
              <a:t>           </a:t>
            </a:r>
            <a:br>
              <a:rPr sz="2400"/>
            </a:br>
            <a:br>
              <a:rPr sz="2400"/>
            </a:br>
            <a:br>
              <a:rPr sz="2400"/>
            </a:br>
            <a:r>
              <a:rPr b="0" lang="pt-BR" sz="2400" spc="-1" strike="noStrike">
                <a:solidFill>
                  <a:srgbClr val="ffff00"/>
                </a:solidFill>
                <a:latin typeface="Arial"/>
              </a:rPr>
              <a:t>                                           e-mail:rgbrasil@uol.com.br</a:t>
            </a:r>
            <a:endParaRPr b="0" lang="en-US" sz="2400" spc="-1" strike="noStrike">
              <a:solidFill>
                <a:srgbClr val="ffff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Era do Conhecimento</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98" name="PlaceHolder 2"/>
          <p:cNvSpPr>
            <a:spLocks noGrp="1"/>
          </p:cNvSpPr>
          <p:nvPr>
            <p:ph/>
          </p:nvPr>
        </p:nvSpPr>
        <p:spPr>
          <a:xfrm>
            <a:off x="685800" y="1981080"/>
            <a:ext cx="7772400" cy="4114800"/>
          </a:xfrm>
          <a:prstGeom prst="rect">
            <a:avLst/>
          </a:prstGeom>
          <a:solidFill>
            <a:srgbClr val="333399"/>
          </a:solidFill>
          <a:ln w="9360">
            <a:solidFill>
              <a:srgbClr val="ffff00"/>
            </a:solidFill>
            <a:miter/>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 conhecimento é diferencial de mercado</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 capital humano é o principal ativo das empresas</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ducação = investimento = competitividade</a:t>
            </a:r>
            <a:endParaRPr b="0" lang="en-US" sz="2800" spc="-1" strike="noStrike">
              <a:solidFill>
                <a:srgbClr val="ffff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mpresa: Novo Espaço </a:t>
            </a:r>
            <a:br>
              <a:rPr sz="3600"/>
            </a:br>
            <a:r>
              <a:rPr b="0" lang="en-US" sz="3600" spc="-1" strike="noStrike">
                <a:solidFill>
                  <a:srgbClr val="ffff00"/>
                </a:solidFill>
                <a:latin typeface="Arial"/>
              </a:rPr>
              <a:t>de Aprendizagem</a:t>
            </a:r>
            <a:endParaRPr b="0" lang="en-US" sz="3600" spc="-1" strike="noStrike">
              <a:solidFill>
                <a:srgbClr val="ffff00"/>
              </a:solidFill>
              <a:latin typeface="Arial"/>
            </a:endParaRPr>
          </a:p>
        </p:txBody>
      </p:sp>
      <p:sp>
        <p:nvSpPr>
          <p:cNvPr id="100" name="PlaceHolder 2"/>
          <p:cNvSpPr>
            <a:spLocks noGrp="1"/>
          </p:cNvSpPr>
          <p:nvPr>
            <p:ph/>
          </p:nvPr>
        </p:nvSpPr>
        <p:spPr>
          <a:xfrm>
            <a:off x="685800" y="2057400"/>
            <a:ext cx="7772400" cy="4038480"/>
          </a:xfrm>
          <a:prstGeom prst="rect">
            <a:avLst/>
          </a:prstGeom>
          <a:solidFill>
            <a:srgbClr val="333399"/>
          </a:solid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toque de conhecimento se renova a cada 18 meses</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balhador = eterno aprendiz</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UA: u$ 60 bilhões/ano em educação corporativa</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sil: só BankBoston  e Visa investiram </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3 milhões cada em 2001</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dades Corporativas: EUA – 3.000 / Brasil - 40</a:t>
            </a: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ducação Corporativa</a:t>
            </a:r>
            <a:endParaRPr b="0" lang="en-US" sz="3600" spc="-1" strike="noStrike">
              <a:solidFill>
                <a:srgbClr val="ffff00"/>
              </a:solidFill>
              <a:latin typeface="Arial"/>
            </a:endParaRPr>
          </a:p>
        </p:txBody>
      </p:sp>
      <p:sp>
        <p:nvSpPr>
          <p:cNvPr id="102"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jetivo: desenvolver as competências essenciais para o sucesso do negócio </a:t>
            </a:r>
            <a:r>
              <a:rPr b="0" i="1" lang="en-US" sz="2800" spc="-1" strike="noStrike">
                <a:solidFill>
                  <a:srgbClr val="ffff00"/>
                </a:solidFill>
                <a:latin typeface="Arial"/>
              </a:rPr>
              <a:t>(Marisa Éboli)</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gundo Jeanne Meister, são </a:t>
            </a:r>
            <a:r>
              <a:rPr b="0" lang="en-US" sz="2800" spc="-1" strike="noStrike" u="sng">
                <a:solidFill>
                  <a:srgbClr val="ffff00"/>
                </a:solidFill>
                <a:uFillTx/>
                <a:latin typeface="Arial"/>
              </a:rPr>
              <a:t>sete</a:t>
            </a:r>
            <a:r>
              <a:rPr b="0" lang="en-US" sz="2800" spc="-1" strike="noStrike">
                <a:solidFill>
                  <a:srgbClr val="ffff00"/>
                </a:solidFill>
                <a:latin typeface="Arial"/>
              </a:rPr>
              <a:t> as competências essenciais que as empresas precisam estimular nos colaboradores  para garantir a competitividade:</a:t>
            </a:r>
            <a:endParaRPr b="0" lang="en-US" sz="2800" spc="-1" strike="noStrike">
              <a:solidFill>
                <a:srgbClr val="ffff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etências Essenciais no Ambiente de Negócios</a:t>
            </a:r>
            <a:endParaRPr b="0" lang="en-US" sz="3600" spc="-1" strike="noStrike">
              <a:solidFill>
                <a:srgbClr val="ffff00"/>
              </a:solidFill>
              <a:latin typeface="Arial"/>
            </a:endParaRPr>
          </a:p>
        </p:txBody>
      </p:sp>
      <p:sp>
        <p:nvSpPr>
          <p:cNvPr id="104"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prender a aprender</a:t>
            </a:r>
            <a:r>
              <a:rPr b="0" lang="en-US" sz="2800" spc="-1" strike="noStrike">
                <a:solidFill>
                  <a:srgbClr val="ffff00"/>
                </a:solidFill>
                <a:latin typeface="Arial"/>
              </a:rPr>
              <a:t>: formular perguntas, dar respostas</a:t>
            </a: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municação e colaboração</a:t>
            </a:r>
            <a:r>
              <a:rPr b="0" lang="en-US" sz="2800" spc="-1" strike="noStrike">
                <a:solidFill>
                  <a:srgbClr val="ffff00"/>
                </a:solidFill>
                <a:latin typeface="Arial"/>
              </a:rPr>
              <a:t>: trabalho em equipe</a:t>
            </a:r>
            <a:endParaRPr b="0" lang="en-US" sz="2800" spc="-1" strike="noStrike">
              <a:solidFill>
                <a:srgbClr val="ffff00"/>
              </a:solidFill>
              <a:latin typeface="Times New Roman"/>
            </a:endParaRPr>
          </a:p>
          <a:p>
            <a:pPr marL="609480" indent="-609480">
              <a:lnSpc>
                <a:spcPct val="10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aciocínio criativo e resolução de problemas</a:t>
            </a:r>
            <a:r>
              <a:rPr b="0" lang="en-US" sz="2800" spc="-1" strike="noStrike">
                <a:solidFill>
                  <a:srgbClr val="ffff00"/>
                </a:solidFill>
                <a:latin typeface="Arial"/>
              </a:rPr>
              <a:t>: identificar problemas, oferecer soluções</a:t>
            </a:r>
            <a:endParaRPr b="0" lang="en-US" sz="2800" spc="-1" strike="noStrike">
              <a:solidFill>
                <a:srgbClr val="ffff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etências Essenciais no Ambiente de Negócios</a:t>
            </a:r>
            <a:endParaRPr b="0" lang="en-US" sz="36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5335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nhecimento tecnológico</a:t>
            </a:r>
            <a:r>
              <a:rPr b="0" lang="en-US" sz="2800" spc="-1" strike="noStrike">
                <a:solidFill>
                  <a:srgbClr val="ffff00"/>
                </a:solidFill>
                <a:latin typeface="Arial"/>
              </a:rPr>
              <a:t>: usar Intranet e Internet com criatividade</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onhecimento de negócios globais</a:t>
            </a:r>
            <a:r>
              <a:rPr b="0" lang="en-US" sz="2800" spc="-1" strike="noStrike">
                <a:solidFill>
                  <a:srgbClr val="ffff00"/>
                </a:solidFill>
                <a:latin typeface="Arial"/>
              </a:rPr>
              <a:t>: globalização exige novas estratégias</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senvolvimento de liderança</a:t>
            </a:r>
            <a:r>
              <a:rPr b="0" lang="en-US" sz="2800" spc="-1" strike="noStrike">
                <a:solidFill>
                  <a:srgbClr val="ffff00"/>
                </a:solidFill>
                <a:latin typeface="Arial"/>
              </a:rPr>
              <a:t>: agentes de mudanças</a:t>
            </a:r>
            <a:endParaRPr b="0" lang="en-US" sz="2800" spc="-1" strike="noStrike">
              <a:solidFill>
                <a:srgbClr val="ffff00"/>
              </a:solidFill>
              <a:latin typeface="Times New Roman"/>
            </a:endParaRPr>
          </a:p>
          <a:p>
            <a:pPr marL="533520" indent="-533520">
              <a:lnSpc>
                <a:spcPct val="100000"/>
              </a:lnSpc>
              <a:spcBef>
                <a:spcPts val="700"/>
              </a:spcBef>
              <a:buClr>
                <a:srgbClr val="ffff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utogerenciamento da carreira</a:t>
            </a:r>
            <a:r>
              <a:rPr b="0" lang="en-US" sz="2800" spc="-1" strike="noStrike">
                <a:solidFill>
                  <a:srgbClr val="ffff00"/>
                </a:solidFill>
                <a:latin typeface="Arial"/>
              </a:rPr>
              <a:t>: buscar qualificações para crescer</a:t>
            </a:r>
            <a:endParaRPr b="0" lang="en-US" sz="2800" spc="-1" strike="noStrike">
              <a:solidFill>
                <a:srgbClr val="ffff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Solução Para a</a:t>
            </a:r>
            <a:br>
              <a:rPr sz="3600"/>
            </a:br>
            <a:r>
              <a:rPr b="0" lang="en-US" sz="3600" spc="-1" strike="noStrike">
                <a:solidFill>
                  <a:srgbClr val="ffff00"/>
                </a:solidFill>
                <a:latin typeface="Arial"/>
              </a:rPr>
              <a:t> Educação Corporativa</a:t>
            </a:r>
            <a:endParaRPr b="0" lang="en-US" sz="3600" spc="-1" strike="noStrike">
              <a:solidFill>
                <a:srgbClr val="ffff00"/>
              </a:solidFill>
              <a:latin typeface="Arial"/>
            </a:endParaRPr>
          </a:p>
        </p:txBody>
      </p:sp>
      <p:sp>
        <p:nvSpPr>
          <p:cNvPr id="108"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fontScale="97000"/>
          </a:bodyPr>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32640" indent="-33264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sil: investimentos em EAD nas empresas  passaram de R$ 10 milhões para R$ 45 milhões (2000/2001)</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acterísticas da EAD (mediada por tecnologia interativa) que atraem as empresas:</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nomia</a:t>
            </a:r>
            <a:endParaRPr b="0" lang="en-US" sz="2800" spc="-1" strike="noStrike">
              <a:solidFill>
                <a:srgbClr val="ffff00"/>
              </a:solidFill>
              <a:latin typeface="Times New Roman"/>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exibilidade</a:t>
            </a:r>
            <a:endParaRPr b="0" lang="en-US" sz="2800" spc="-1" strike="noStrike">
              <a:solidFill>
                <a:srgbClr val="ffff00"/>
              </a:solidFill>
              <a:latin typeface="Times New Roman"/>
            </a:endParaRPr>
          </a:p>
          <a:p>
            <a:pPr marL="332640" indent="-33264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AD Corporativa: Autonomia Flexibilidade e  Custos</a:t>
            </a:r>
            <a:endParaRPr b="0" lang="en-US" sz="3600" spc="-1" strike="noStrike">
              <a:solidFill>
                <a:srgbClr val="ffff00"/>
              </a:solidFill>
              <a:latin typeface="Arial"/>
            </a:endParaRPr>
          </a:p>
        </p:txBody>
      </p:sp>
      <p:sp>
        <p:nvSpPr>
          <p:cNvPr id="110" name="PlaceHolder 2"/>
          <p:cNvSpPr>
            <a:spLocks noGrp="1"/>
          </p:cNvSpPr>
          <p:nvPr>
            <p:ph/>
          </p:nvPr>
        </p:nvSpPr>
        <p:spPr>
          <a:xfrm>
            <a:off x="685800" y="1981080"/>
            <a:ext cx="7772400" cy="4114800"/>
          </a:xfrm>
          <a:prstGeom prst="rect">
            <a:avLst/>
          </a:prstGeom>
          <a:solidFill>
            <a:srgbClr val="333399"/>
          </a:solid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Autonomia</a:t>
            </a:r>
            <a:r>
              <a:rPr b="0" lang="en-US" sz="2800" spc="-1" strike="noStrike">
                <a:solidFill>
                  <a:srgbClr val="ffff00"/>
                </a:solidFill>
                <a:latin typeface="Arial"/>
              </a:rPr>
              <a:t>: público adulto capaz de assumir a auto-aprendizagem</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Flexibilidade</a:t>
            </a:r>
            <a:r>
              <a:rPr b="0" lang="en-US" sz="2800" spc="-1" strike="noStrike">
                <a:solidFill>
                  <a:srgbClr val="ffff00"/>
                </a:solidFill>
                <a:latin typeface="Arial"/>
              </a:rPr>
              <a:t>:“anytime, anywhere”</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ustos</a:t>
            </a:r>
            <a:r>
              <a:rPr b="0" lang="en-US" sz="2800" spc="-1" strike="noStrike">
                <a:solidFill>
                  <a:srgbClr val="ffff00"/>
                </a:solidFill>
                <a:latin typeface="Arial"/>
              </a:rPr>
              <a:t>: mantém o funcionário no local de trabalho. Reduz investimento em infra-estrutura e  gastos com viagens. </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encializa o atendimento.</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solidFill>
            <a:srgbClr val="3333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delo de EAD Indicado para o Universo Corporativo</a:t>
            </a:r>
            <a:endParaRPr b="0" lang="en-US" sz="3600" spc="-1" strike="noStrike">
              <a:solidFill>
                <a:srgbClr val="ffff00"/>
              </a:solidFill>
              <a:latin typeface="Arial"/>
            </a:endParaRPr>
          </a:p>
        </p:txBody>
      </p:sp>
      <p:sp>
        <p:nvSpPr>
          <p:cNvPr id="112" name="PlaceHolder 2"/>
          <p:cNvSpPr>
            <a:spLocks noGrp="1"/>
          </p:cNvSpPr>
          <p:nvPr>
            <p:ph/>
          </p:nvPr>
        </p:nvSpPr>
        <p:spPr>
          <a:xfrm>
            <a:off x="685800" y="2209680"/>
            <a:ext cx="7772400" cy="4114800"/>
          </a:xfrm>
          <a:prstGeom prst="rect">
            <a:avLst/>
          </a:prstGeom>
          <a:solidFill>
            <a:srgbClr val="333399"/>
          </a:solidFill>
          <a:ln w="0">
            <a:noFill/>
          </a:ln>
        </p:spPr>
        <p:txBody>
          <a:bodyPr lIns="90000" rIns="90000" tIns="46800" bIns="46800" anchor="t">
            <a:normAutofit/>
          </a:bodyPr>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tivista </a:t>
            </a:r>
            <a:endParaRPr b="0" lang="en-US" sz="2800" spc="-1" strike="noStrike">
              <a:solidFill>
                <a:srgbClr val="ffff00"/>
              </a:solidFill>
              <a:latin typeface="Times New Roman"/>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ócio-interacionista, com ambientes virtuais de aprendizagem colaborativa.</a:t>
            </a:r>
            <a:r>
              <a:rPr b="0" lang="en-US" sz="3200" spc="-1" strike="noStrike">
                <a:solidFill>
                  <a:srgbClr val="ffff00"/>
                </a:solidFill>
                <a:latin typeface="Arial"/>
              </a:rPr>
              <a:t> </a:t>
            </a:r>
            <a:endParaRPr b="0" lang="en-US" sz="32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r quê?</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ó ele é capaz de desenvolver as competências essenciais do ambiente de negócios.</a:t>
            </a:r>
            <a:endParaRPr b="0" lang="en-US" sz="2800" spc="-1" strike="noStrike">
              <a:solidFill>
                <a:srgbClr val="ffff00"/>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3:13:39Z</dcterms:created>
  <dc:creator>Odair Redondo</dc:creator>
  <dc:description/>
  <dc:language>en-US</dc:language>
  <cp:lastModifiedBy>Odair Redondo</cp:lastModifiedBy>
  <dcterms:modified xsi:type="dcterms:W3CDTF">2002-09-02T16:15:02Z</dcterms:modified>
  <cp:revision>97</cp:revision>
  <dc:subject/>
  <dc:title>Apresentação do PowerPoint</dc:title>
</cp:coreProperties>
</file>