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C82-E118-4F0E-9BB9-807E79DF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0F2-1103-40B7-9BC0-397AC26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F85-CC61-404C-8E5B-1451ED51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07F-11E2-4680-BE17-DC07B938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9BF9-FAC2-40F0-9D09-3DC3F6FC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2000-795E-4344-A75C-6BE3346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4DDA-4285-4462-82AB-0D677AD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0A6F-DF2F-4BC5-86AE-77B67E5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EB7F-E8B4-4F24-B37F-F9F0EB3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A04-745D-4527-9FEB-A4F26E9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F8E-7608-44DB-9720-9599BAE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2AA-0FA5-48F0-A8EF-C4A3662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5E62-BCC4-4F2B-A63D-DA6B99D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8840-E14A-493B-BB2C-2CEB814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82DC-BB18-44C4-89F2-5FCE4AF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821A-3240-4B13-93CC-E6DB6852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6785-C924-42B6-9AC6-21A70DEF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580-4612-4B29-952A-63B188B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FF8-9535-48F4-B8D7-1D90CB4B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F0C-9E30-4F6B-B5CC-EF9E46E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EA5-84DE-4027-A541-76AEC3B4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DD7-C9D8-4A7F-BAD8-61162E4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72E-3A3D-460D-98A1-FAD1C75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C0B-4EC1-489B-ACC3-68050E4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C5B-A472-4169-B804-9727D5A5E977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8A70-F0D0-4B7F-BEFD-A04A0640B025}" type="slidenum">
              <a:rPr b="0" lang="pt-B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cardo@rieli.com.br" TargetMode="External"/><Relationship Id="rId2" Type="http://schemas.openxmlformats.org/officeDocument/2006/relationships/hyperlink" Target="mailto:ricardo@rieli.com.br" TargetMode="External"/><Relationship Id="rId3" Type="http://schemas.openxmlformats.org/officeDocument/2006/relationships/hyperlink" Target="mailto:ricardo@rieli.com.br" TargetMode="External"/><Relationship Id="rId4" Type="http://schemas.openxmlformats.org/officeDocument/2006/relationships/hyperlink" Target="mailto:ricardo@rieli.com.br" TargetMode="External"/><Relationship Id="rId5" Type="http://schemas.openxmlformats.org/officeDocument/2006/relationships/hyperlink" Target="mailto:ricardo@rieli.com.br" TargetMode="External"/><Relationship Id="rId6" Type="http://schemas.openxmlformats.org/officeDocument/2006/relationships/hyperlink" Target="mailto:ricardo.ead@ises.com.br" TargetMode="External"/><Relationship Id="rId7" Type="http://schemas.openxmlformats.org/officeDocument/2006/relationships/hyperlink" Target="mailto:ricardo.ead@ises.com.br" TargetMode="External"/><Relationship Id="rId8" Type="http://schemas.openxmlformats.org/officeDocument/2006/relationships/hyperlink" Target="mailto:ricardo.ead@ises.com.br" TargetMode="External"/><Relationship Id="rId9" Type="http://schemas.openxmlformats.org/officeDocument/2006/relationships/hyperlink" Target="mailto:ricardo.ead@ises.com.br" TargetMode="External"/><Relationship Id="rId10" Type="http://schemas.openxmlformats.org/officeDocument/2006/relationships/hyperlink" Target="mailto:ricardo.ead@ises.com.br" TargetMode="External"/><Relationship Id="rId11" Type="http://schemas.openxmlformats.org/officeDocument/2006/relationships/hyperlink" Target="mailto:ricardo.ead@ises.com.br" TargetMode="External"/><Relationship Id="rId12" Type="http://schemas.openxmlformats.org/officeDocument/2006/relationships/hyperlink" Target="mailto:ricardo.ead@ises.com.br" TargetMode="External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4176"/>
                </a:solidFill>
                <a:latin typeface="Arial"/>
              </a:rPr>
              <a:t>Planejando Atividades à Distância em Cursos Presenciais do Ensino Superior</a:t>
            </a:r>
            <a:endParaRPr b="0" lang="en-US" sz="3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icardo Carvalho Rodrigu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rieli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ricardo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ead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@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ises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.com.</a:t>
            </a:r>
            <a:r>
              <a:rPr b="0" lang="pt-BR" sz="32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b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valiação de aprendizagem da atividade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valiaçã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ritérios utilizado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Tipo de avaliação e forma de correção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ronograma da atividad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Dificuldades e Desafio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ara o professor: diferenciar atividades de estudo das atividades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ara o aluno: diferenciar a carga horária da atividade à distância com o horário de estudo individu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Fazer as “pontes” entre o presencial e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Pesquisa do Mestrad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Educação à Distância em Cursos Presenciais do Ensino Superi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ificuldade didático-pedagógica do docen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Integração das atividades à distância com o presenc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valiação das atividades desenvolvida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riar uma sistemática para o planejament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laborar no acompanhamento do profess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Preparar a equipe para a implantação da Lei 2.253 – 18/out/200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Pontos de Partid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ecessidade de um planejamento mais detalhado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ecessidade da integração do presencial com as atividades à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383ad"/>
                </a:solidFill>
                <a:latin typeface="Arial"/>
              </a:rPr>
              <a:t>O retorno das atividades à distância para o presenci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iretrizes Pedagógicas da Instituição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ement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urso e semestre que faz part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Nome e breve currículo do professor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Carga horária da disciplina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úblico alv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Objetivo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mpetências a desenvolver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hecimentos prévi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gerais da disciplina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O Planejament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Formas de avaliação de aprendizagem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Referências utilizadas e indicad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Eixos temáticos e atividade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Montagem do cronograma de aulas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Eixos Temático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Definição de grandes tema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Conteúdos que serão trabalhados;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383ad"/>
                </a:solidFill>
                <a:latin typeface="Arial"/>
              </a:rPr>
              <a:t>Atividades para cada eixo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Presenciais e a Distânci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4176"/>
                </a:solidFill>
                <a:latin typeface="Arial"/>
              </a:rPr>
              <a:t>Atividades a Distânci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Objetivos da atividade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o grau de interação entre professor-aluno e aluno-aluno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finição das ferramentas;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383ad"/>
                </a:solidFill>
                <a:latin typeface="Arial"/>
              </a:rPr>
              <a:t>Desenvolvimento de materiais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23:42:50Z</dcterms:created>
  <dc:creator>ricardo.ead</dc:creator>
  <dc:description/>
  <dc:language>en-US</dc:language>
  <cp:lastModifiedBy>ricardo.ead</cp:lastModifiedBy>
  <dcterms:modified xsi:type="dcterms:W3CDTF">2002-09-04T13:08:20Z</dcterms:modified>
  <cp:revision>3</cp:revision>
  <dc:subject/>
  <dc:title>Planejamento de Atividades a Distância em Cursos Presenciais</dc:title>
</cp:coreProperties>
</file>