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0DA-EE36-4F9F-A0CF-2B222D34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44C-171F-4E82-8C0C-E2210AF0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AF6-30C9-41A9-8EE3-55E81025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49D-E809-4DCD-AAF7-980D16B2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94BE-57CF-46AE-B9C4-1998978D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D587-B37B-4A96-B5BB-87E67DB4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3695-725E-4FAC-82EB-DEA49977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9C5F-6E44-443F-9A00-BD7E8F7A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28A4-E80E-4C1D-91D6-4875520C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CFE6-95ED-4A37-9A52-D608441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A869-9EED-4310-9246-17E93D13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1B6-547E-4FA6-A42D-90994F8D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9166-AA80-40FE-B73C-F049BE16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497A-6E5B-4451-BE56-5C6BB60B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449E-F312-4553-A7B6-4E0542F1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CD73-B027-4667-940B-66B57EAE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0383-B310-4FE8-AD43-95F8187A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E6D-4A67-46BF-9146-94636BD3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3CA-52E4-4081-97C9-4157184D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0FB-6640-40D9-8E60-FE859AB8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D90-7725-498F-AC54-3C9F7925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715-9887-4592-B864-10FC930F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CF9-3C36-4947-ABE2-E877B9A8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E21-757C-49FB-AAF8-19E671C7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F6AA-4963-49A5-9C7C-55B5D740DC5A}" type="slidenum"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F43D-AC83-448A-83BE-9E9DE2BD7FB9}" type="slidenum"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icardo@rieli.com.br" TargetMode="External"/><Relationship Id="rId2" Type="http://schemas.openxmlformats.org/officeDocument/2006/relationships/hyperlink" Target="mailto:ricardo@rieli.com.br" TargetMode="External"/><Relationship Id="rId3" Type="http://schemas.openxmlformats.org/officeDocument/2006/relationships/hyperlink" Target="mailto:ricardo@rieli.com.br" TargetMode="External"/><Relationship Id="rId4" Type="http://schemas.openxmlformats.org/officeDocument/2006/relationships/hyperlink" Target="mailto:ricardo@rieli.com.br" TargetMode="External"/><Relationship Id="rId5" Type="http://schemas.openxmlformats.org/officeDocument/2006/relationships/hyperlink" Target="mailto:ricardo@rieli.com.br" TargetMode="External"/><Relationship Id="rId6" Type="http://schemas.openxmlformats.org/officeDocument/2006/relationships/hyperlink" Target="mailto:ricardo.ead@ises.com.br" TargetMode="External"/><Relationship Id="rId7" Type="http://schemas.openxmlformats.org/officeDocument/2006/relationships/hyperlink" Target="mailto:ricardo.ead@ises.com.br" TargetMode="External"/><Relationship Id="rId8" Type="http://schemas.openxmlformats.org/officeDocument/2006/relationships/hyperlink" Target="mailto:ricardo.ead@ises.com.br" TargetMode="External"/><Relationship Id="rId9" Type="http://schemas.openxmlformats.org/officeDocument/2006/relationships/hyperlink" Target="mailto:ricardo.ead@ises.com.br" TargetMode="External"/><Relationship Id="rId10" Type="http://schemas.openxmlformats.org/officeDocument/2006/relationships/hyperlink" Target="mailto:ricardo.ead@ises.com.br" TargetMode="External"/><Relationship Id="rId11" Type="http://schemas.openxmlformats.org/officeDocument/2006/relationships/hyperlink" Target="mailto:ricardo.ead@ises.com.br" TargetMode="External"/><Relationship Id="rId12" Type="http://schemas.openxmlformats.org/officeDocument/2006/relationships/hyperlink" Target="mailto:ricardo.ead@ises.com.br" TargetMode="External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8001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04176"/>
                </a:solidFill>
                <a:latin typeface="Arial"/>
              </a:rPr>
              <a:t>Planejamento de Atividades a Distância em Cursos Presenciai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Ricardo Carvalho Rodrigu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ricardo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@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rieli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.com.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b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ricardo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.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8"/>
              </a:rPr>
              <a:t>ead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@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0"/>
              </a:rPr>
              <a:t>ises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.com.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2"/>
              </a:rPr>
              <a:t>b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bjetivo do Curs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Refletir sobre o planejamento de atividades a distância em cursos presenciais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Definir critérios para o planejamento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Discutir a possibilidade de flexibilização da carga horária no ensino superior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 Planejament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ome e ementa da disciplina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Curso e semestre que faz parte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ome e breve currículo do professor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Carga horária da disciplina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úblico alvo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 Planejament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Objetivos da disciplina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mpetências a desenvolver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nhecimentos prévio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nteúdos gerais da disciplina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 Planejament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Formas de avaliação de aprendizagem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Referências utilizadas e indicada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Eixos temáticos e atividade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Montagem do cronograma de aulas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Eixos Temático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Definição de grandes tema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nteúdos que serão trabalhado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Atividades para cada eixo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resenciais e a Distânc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Atividades a Distânci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Objetivos da atividade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efinição do grau de interação entre professor-aluno e aluno-aluno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efinição das ferramentas;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esenvolvimento de materiais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Atividade a Distânci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Avaliação de aprendizagem da atividade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Objetivos da avaliação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Critérios utilizados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Tipo de avaliação e forma de correção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ronograma da atividad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23:42:50Z</dcterms:created>
  <dc:creator>ricardo.ead</dc:creator>
  <dc:description/>
  <dc:language>en-US</dc:language>
  <cp:lastModifiedBy>Ricardo Carvalho Rodrigues</cp:lastModifiedBy>
  <dcterms:modified xsi:type="dcterms:W3CDTF">2002-08-31T03:22:13Z</dcterms:modified>
  <cp:revision>2</cp:revision>
  <dc:subject/>
  <dc:title>Planejamento de Atividades a Distância em Cursos Presenciais</dc:title>
</cp:coreProperties>
</file>