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03A-E9BC-4CE8-B6D4-E9216E50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E82-B661-4B71-87AD-B16D385D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884-0F68-4F67-AAFE-77E94238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150-309F-4F72-A89B-2D88003E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1690-2C49-4C0D-91AD-79EFCCDD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A07C-E68A-4553-8FC6-7C7108D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7E46-EEF7-4EBF-BEBF-7F50C597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EAE5-B94B-4280-9621-E4B49D3D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F32D-411C-4198-9CE6-638DA317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83C8-565A-4E3D-BE43-86109025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4A90-E45A-4402-88E8-F0894BD3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DBA-3ADA-4966-ADC7-BCA6522A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511D-036C-45C8-9D1E-29484E49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48D0-0E70-40C6-A2B3-7C48F3A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D600-382E-48EC-9854-F058C091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5A5A-7E53-47C7-A11A-8811B1BD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8B05-2D3F-48B7-A244-72EB456A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443-93A0-45AE-907D-F8E3BB0F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1D6-7B94-4231-8928-7F088FE9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932-093A-4155-8D71-B553C75F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62C-52E8-4C38-9F25-C42205D5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0DE-0DE8-4138-A297-74E38C15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F9E-D797-4709-BF48-8F12C20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9F8F-35CA-43F1-A153-6B79F11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E5A1-A434-4F4E-82E4-7367844E59B2}" type="slidenum"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7D4D-C48A-49FC-91CC-AB98690E2E9D}" type="slidenum"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icardo@rieli.com.br" TargetMode="External"/><Relationship Id="rId2" Type="http://schemas.openxmlformats.org/officeDocument/2006/relationships/hyperlink" Target="mailto:ricardo@rieli.com.br" TargetMode="External"/><Relationship Id="rId3" Type="http://schemas.openxmlformats.org/officeDocument/2006/relationships/hyperlink" Target="mailto:ricardo@rieli.com.br" TargetMode="External"/><Relationship Id="rId4" Type="http://schemas.openxmlformats.org/officeDocument/2006/relationships/hyperlink" Target="mailto:ricardo@rieli.com.br" TargetMode="External"/><Relationship Id="rId5" Type="http://schemas.openxmlformats.org/officeDocument/2006/relationships/hyperlink" Target="mailto:ricardo@rieli.com.br" TargetMode="External"/><Relationship Id="rId6" Type="http://schemas.openxmlformats.org/officeDocument/2006/relationships/hyperlink" Target="mailto:ricardo.ead@ises.com.br" TargetMode="External"/><Relationship Id="rId7" Type="http://schemas.openxmlformats.org/officeDocument/2006/relationships/hyperlink" Target="mailto:ricardo.ead@ises.com.br" TargetMode="External"/><Relationship Id="rId8" Type="http://schemas.openxmlformats.org/officeDocument/2006/relationships/hyperlink" Target="mailto:ricardo.ead@ises.com.br" TargetMode="External"/><Relationship Id="rId9" Type="http://schemas.openxmlformats.org/officeDocument/2006/relationships/hyperlink" Target="mailto:ricardo.ead@ises.com.br" TargetMode="External"/><Relationship Id="rId10" Type="http://schemas.openxmlformats.org/officeDocument/2006/relationships/hyperlink" Target="mailto:ricardo.ead@ises.com.br" TargetMode="External"/><Relationship Id="rId11" Type="http://schemas.openxmlformats.org/officeDocument/2006/relationships/hyperlink" Target="mailto:ricardo.ead@ises.com.br" TargetMode="External"/><Relationship Id="rId12" Type="http://schemas.openxmlformats.org/officeDocument/2006/relationships/hyperlink" Target="mailto:ricardo.ead@ises.com.br" TargetMode="External"/><Relationship Id="rId1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04176"/>
                </a:solidFill>
                <a:latin typeface="Arial"/>
              </a:rPr>
              <a:t>Planejando Atividades à Distância em Cursos Presenciais do Ensino Superior</a:t>
            </a:r>
            <a:endParaRPr b="0" lang="en-US" sz="3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Ricardo Carvalho Rodrigu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ricardo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@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3"/>
              </a:rPr>
              <a:t>rieli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.com.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b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ricardo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.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8"/>
              </a:rPr>
              <a:t>ead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@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0"/>
              </a:rPr>
              <a:t>ises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.com.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2"/>
              </a:rPr>
              <a:t>b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Atividade a Distânci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Avaliação de aprendizagem da atividade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Objetivos da avaliação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Critérios utilizados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Tipo de avaliação e forma de correção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ronograma da atividad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Dificuldades e Desafio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Para o professor: diferenciar atividades de estudo das atividades à distânc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Para o aluno: diferenciar a carga horária da atividade à distância com o horário de estudo individu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Fazer as “pontes” entre o presencial e à distânc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Pesquisa do Mestrado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Educação à Distância em Cursos Presenciais do Ensino Superi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Dificuldade didático-pedagógica do docent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Integração das atividades à distância com o presencia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Avaliação das atividades desenvolvida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bjetivos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riar uma sistemática para o planejamento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laborar no acompanhamento do profess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Preparar a equipe para a implantação da Lei 2.253 – 18/out/200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Pontos de Partid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Necessidade de um planejamento mais detalhado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Necessidade da integração do presencial com as atividades à distânc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383ad"/>
                </a:solidFill>
                <a:latin typeface="Arial"/>
              </a:rPr>
              <a:t>O retorno das atividades à distância para o presenci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Diretrizes Pedagógicas da Instituição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 Planejament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Nome e ementa da disciplina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Curso e semestre que faz parte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Nome e breve currículo do professor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Carga horária da disciplina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Público alvo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 Planejament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Objetivos da disciplina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mpetências a desenvolver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nhecimentos prévio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nteúdos gerais da disciplina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 Planejament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Formas de avaliação de aprendizagem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Referências utilizadas e indicada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Eixos temáticos e atividade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Montagem do cronograma de aulas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Eixos Temático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Definição de grandes tema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nteúdos que serão trabalhado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Atividades para cada eixo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Presenciais e a Distânc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Atividades a Distânci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Objetivos da atividade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Definição do grau de interação entre professor-aluno e aluno-aluno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Definição das ferramentas;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Desenvolvimento de materiais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23:42:50Z</dcterms:created>
  <dc:creator>ricardo.ead</dc:creator>
  <dc:description/>
  <dc:language>en-US</dc:language>
  <cp:lastModifiedBy>ricardo.ead</cp:lastModifiedBy>
  <dcterms:modified xsi:type="dcterms:W3CDTF">2002-09-04T13:08:20Z</dcterms:modified>
  <cp:revision>3</cp:revision>
  <dc:subject/>
  <dc:title>Planejamento de Atividades a Distância em Cursos Presenciais</dc:title>
</cp:coreProperties>
</file>