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29425" cy="893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5C4-1FE1-4557-9427-11B38A46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24D-7CE1-4DAD-8796-6FCD5E09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8B45-6B04-47E9-BF71-734F121E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BE5-21ED-4FAE-8819-307DD39A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CDCE-C164-45E3-92AE-E664AA3C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647F-A5C1-423C-B519-8EDC9E96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572E-421E-4C66-8D0C-2E39B20B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43D5-CC1C-4448-ABAE-165AB3FF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BA6C-204B-4CF6-99DC-787E8C45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D929-6132-44CC-A4F1-FC158E4D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28DF-0886-482C-B30F-CC50F46D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237-7DD8-44C8-9601-88714442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30E2-CCF9-4A4D-8EB8-674E0A9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7264-06A6-41C4-BD04-69D56BB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9376-F7A0-415B-8919-6C9633ED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189F-0A7B-4EBC-96E4-BD17E134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9210-8A2E-4F31-A5C9-DE42C050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524-21A3-44A8-881D-45D1111E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A55-68D4-4D7B-94B4-D0BE2C67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344-4CE1-4F59-B56C-D515C971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CAA-0811-4802-9C32-1C315E2D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15B-9951-4147-A706-6C5E4EF0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51F-53D5-4CFF-8A5D-64AAA3EF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F36B-F240-48D3-A9A0-E55FFA16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6ad2da"/>
              </a:gs>
              <a:gs pos="50000">
                <a:srgbClr val="00cc99"/>
              </a:gs>
              <a:gs pos="100000">
                <a:srgbClr val="6ad2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ad2da"/>
              </a:gs>
              <a:gs pos="50000">
                <a:srgbClr val="66ffff"/>
              </a:gs>
              <a:gs pos="100000">
                <a:srgbClr val="6ad2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6ad2da"/>
              </a:gs>
              <a:gs pos="50000">
                <a:srgbClr val="66ffff"/>
              </a:gs>
              <a:gs pos="100000">
                <a:srgbClr val="6ad2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6ad2da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00b6b2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b6b2"/>
              </a:gs>
              <a:gs pos="50000">
                <a:srgbClr val="66ffff"/>
              </a:gs>
              <a:gs pos="100000">
                <a:srgbClr val="00b6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00b6b2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b6b2"/>
              </a:gs>
              <a:gs pos="50000">
                <a:srgbClr val="66ffff"/>
              </a:gs>
              <a:gs pos="100000">
                <a:srgbClr val="00b6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F826-8CF5-4D24-BEA0-CD4A73B87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6ad2da"/>
              </a:gs>
              <a:gs pos="50000">
                <a:srgbClr val="00cc99"/>
              </a:gs>
              <a:gs pos="100000">
                <a:srgbClr val="6ad2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ad2da"/>
              </a:gs>
              <a:gs pos="50000">
                <a:srgbClr val="66ffff"/>
              </a:gs>
              <a:gs pos="100000">
                <a:srgbClr val="6ad2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6ad2da"/>
              </a:gs>
              <a:gs pos="50000">
                <a:srgbClr val="66ffff"/>
              </a:gs>
              <a:gs pos="100000">
                <a:srgbClr val="6ad2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6ad2da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00b6b2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b6b2"/>
              </a:gs>
              <a:gs pos="50000">
                <a:srgbClr val="66ffff"/>
              </a:gs>
              <a:gs pos="100000">
                <a:srgbClr val="00b6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00b6b2"/>
              </a:gs>
              <a:gs pos="100000">
                <a:srgbClr val="66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b6b2"/>
              </a:gs>
              <a:gs pos="50000">
                <a:srgbClr val="66ffff"/>
              </a:gs>
              <a:gs pos="100000">
                <a:srgbClr val="00b6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7D14-DFE6-4AE6-820C-BA8F7D08867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CURSO NORMAL</a:t>
            </a:r>
            <a:r>
              <a:rPr b="1" lang="en-US" sz="4000" spc="-1" strike="noStrike">
                <a:solidFill>
                  <a:srgbClr val="66ff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SUPERIOR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837720" y="2895120"/>
            <a:ext cx="7696440" cy="1676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JETO  ESCOLA  SAGARA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 contexto do Programa Anchi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" y="-936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tura das Atividades do Curso Normal Superi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066680" y="2133720"/>
            <a:ext cx="7848360" cy="4572000"/>
            <a:chOff x="1066680" y="2133720"/>
            <a:chExt cx="7848360" cy="4572000"/>
          </a:xfrm>
        </p:grpSpPr>
        <p:grpSp>
          <p:nvGrpSpPr>
            <p:cNvPr id="118" name=""/>
            <p:cNvGrpSpPr/>
            <p:nvPr/>
          </p:nvGrpSpPr>
          <p:grpSpPr>
            <a:xfrm>
              <a:off x="1072440" y="2136960"/>
              <a:ext cx="7835760" cy="4564800"/>
              <a:chOff x="1072440" y="2136960"/>
              <a:chExt cx="7835760" cy="456480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1072440" y="2136960"/>
                <a:ext cx="2559600" cy="1136520"/>
                <a:chOff x="1072440" y="2136960"/>
                <a:chExt cx="2559600" cy="11365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072440" y="2136960"/>
                  <a:ext cx="2559600" cy="422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1072440" y="2136960"/>
                  <a:ext cx="2559240" cy="1136520"/>
                  <a:chOff x="1072440" y="2136960"/>
                  <a:chExt cx="2559240" cy="11365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1129680" y="2136960"/>
                    <a:ext cx="2444400" cy="113652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tividade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072440" y="2136960"/>
                    <a:ext cx="2559240" cy="1136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" name=""/>
              <p:cNvGrpSpPr/>
              <p:nvPr/>
            </p:nvGrpSpPr>
            <p:grpSpPr>
              <a:xfrm>
                <a:off x="3632400" y="2136960"/>
                <a:ext cx="1670400" cy="422640"/>
                <a:chOff x="3632400" y="2136960"/>
                <a:chExt cx="1670400" cy="422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632400" y="2136960"/>
                  <a:ext cx="1670400" cy="422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3632400" y="2136960"/>
                  <a:ext cx="1670040" cy="422640"/>
                  <a:chOff x="3632400" y="2136960"/>
                  <a:chExt cx="1670040" cy="42264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3689640" y="2136960"/>
                    <a:ext cx="1555560" cy="42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oras por módul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3632400" y="2136960"/>
                    <a:ext cx="1670040" cy="42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9" name=""/>
              <p:cNvGrpSpPr/>
              <p:nvPr/>
            </p:nvGrpSpPr>
            <p:grpSpPr>
              <a:xfrm>
                <a:off x="5303160" y="2136960"/>
                <a:ext cx="812880" cy="1136520"/>
                <a:chOff x="5303160" y="2136960"/>
                <a:chExt cx="812880" cy="11365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303160" y="2136960"/>
                  <a:ext cx="812880" cy="422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" name=""/>
                <p:cNvGrpSpPr/>
                <p:nvPr/>
              </p:nvGrpSpPr>
              <p:grpSpPr>
                <a:xfrm>
                  <a:off x="5303160" y="2136960"/>
                  <a:ext cx="812520" cy="1136520"/>
                  <a:chOff x="5303160" y="2136960"/>
                  <a:chExt cx="812520" cy="113652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5360760" y="2136960"/>
                    <a:ext cx="697320" cy="113652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oras totais no curs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303160" y="2136960"/>
                    <a:ext cx="812520" cy="1136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" name=""/>
              <p:cNvGrpSpPr/>
              <p:nvPr/>
            </p:nvGrpSpPr>
            <p:grpSpPr>
              <a:xfrm>
                <a:off x="6116760" y="2136960"/>
                <a:ext cx="2791440" cy="1136520"/>
                <a:chOff x="6116760" y="2136960"/>
                <a:chExt cx="2791440" cy="11365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116760" y="2136960"/>
                  <a:ext cx="2791440" cy="4226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" name=""/>
                <p:cNvGrpSpPr/>
                <p:nvPr/>
              </p:nvGrpSpPr>
              <p:grpSpPr>
                <a:xfrm>
                  <a:off x="6116760" y="2136960"/>
                  <a:ext cx="2791080" cy="1136520"/>
                  <a:chOff x="6116760" y="2136960"/>
                  <a:chExt cx="2791080" cy="11365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6174000" y="2136960"/>
                    <a:ext cx="2676240" cy="113652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ervaçõe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116760" y="2136960"/>
                    <a:ext cx="2791080" cy="1136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632400" y="2559600"/>
                <a:ext cx="835200" cy="713880"/>
                <a:chOff x="3632400" y="2559600"/>
                <a:chExt cx="835200" cy="7138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632400" y="2559600"/>
                  <a:ext cx="835200" cy="71388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3632400" y="2559600"/>
                  <a:ext cx="834840" cy="713880"/>
                  <a:chOff x="3632400" y="2559600"/>
                  <a:chExt cx="834840" cy="71388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3689280" y="2559600"/>
                    <a:ext cx="720000" cy="71388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oras semanai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3632400" y="2559600"/>
                    <a:ext cx="834840" cy="713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4467960" y="2559600"/>
                <a:ext cx="834840" cy="713880"/>
                <a:chOff x="4467960" y="2559600"/>
                <a:chExt cx="834840" cy="7138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467960" y="2559600"/>
                  <a:ext cx="834840" cy="71388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4467960" y="2559600"/>
                  <a:ext cx="834480" cy="713880"/>
                  <a:chOff x="4467960" y="2559600"/>
                  <a:chExt cx="834480" cy="7138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4524840" y="2559600"/>
                    <a:ext cx="720000" cy="71388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otal p/ módulo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467960" y="2559600"/>
                    <a:ext cx="834480" cy="713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9" name=""/>
              <p:cNvGrpSpPr/>
              <p:nvPr/>
            </p:nvGrpSpPr>
            <p:grpSpPr>
              <a:xfrm>
                <a:off x="1072440" y="3273480"/>
                <a:ext cx="2559600" cy="412200"/>
                <a:chOff x="1072440" y="3273480"/>
                <a:chExt cx="2559600" cy="4122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129680" y="3273480"/>
                  <a:ext cx="24447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ividades da Fase Presen cial Intensiva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072440" y="3273480"/>
                  <a:ext cx="25596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632400" y="3273480"/>
                <a:ext cx="835200" cy="412200"/>
                <a:chOff x="3632400" y="3273480"/>
                <a:chExt cx="835200" cy="412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689640" y="327348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632400" y="3273480"/>
                  <a:ext cx="8352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467960" y="3273480"/>
                <a:ext cx="834840" cy="412200"/>
                <a:chOff x="4467960" y="3273480"/>
                <a:chExt cx="834840" cy="4122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525200" y="327348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467960" y="3273480"/>
                  <a:ext cx="8348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303160" y="3273480"/>
                <a:ext cx="812880" cy="412200"/>
                <a:chOff x="5303160" y="3273480"/>
                <a:chExt cx="812880" cy="4122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360760" y="3273480"/>
                  <a:ext cx="69768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303160" y="3273480"/>
                  <a:ext cx="81288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116760" y="3273480"/>
                <a:ext cx="2791440" cy="412200"/>
                <a:chOff x="6116760" y="3273480"/>
                <a:chExt cx="2791440" cy="4122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174000" y="3273480"/>
                  <a:ext cx="26766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ma semana no início do semestr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116760" y="3273480"/>
                  <a:ext cx="27914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1072440" y="3685680"/>
                <a:ext cx="2559600" cy="412200"/>
                <a:chOff x="1072440" y="3685680"/>
                <a:chExt cx="2559600" cy="412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1129680" y="3685680"/>
                  <a:ext cx="24447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ividades Individuais a Distâ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72440" y="3685680"/>
                  <a:ext cx="25596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632400" y="3685680"/>
                <a:ext cx="835200" cy="412200"/>
                <a:chOff x="3632400" y="3685680"/>
                <a:chExt cx="835200" cy="4122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89640" y="368568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632400" y="3685680"/>
                  <a:ext cx="8352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4467960" y="3685680"/>
                <a:ext cx="834840" cy="412200"/>
                <a:chOff x="4467960" y="3685680"/>
                <a:chExt cx="834840" cy="4122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525200" y="368568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467960" y="3685680"/>
                  <a:ext cx="8348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303160" y="3685680"/>
                <a:ext cx="812880" cy="412200"/>
                <a:chOff x="5303160" y="3685680"/>
                <a:chExt cx="812880" cy="412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5360760" y="3685680"/>
                  <a:ext cx="69768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12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03160" y="3685680"/>
                  <a:ext cx="81288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116760" y="3685680"/>
                <a:ext cx="2791440" cy="412200"/>
                <a:chOff x="6116760" y="3685680"/>
                <a:chExt cx="2791440" cy="4122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174000" y="3685680"/>
                  <a:ext cx="26766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 semanas por módul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116760" y="3685680"/>
                  <a:ext cx="27914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072440" y="4098240"/>
                <a:ext cx="2559600" cy="412200"/>
                <a:chOff x="1072440" y="4098240"/>
                <a:chExt cx="2559600" cy="4122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129680" y="4098240"/>
                  <a:ext cx="24447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ática Pedagógica Orientad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072440" y="4098240"/>
                  <a:ext cx="25596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632400" y="4098240"/>
                <a:ext cx="835200" cy="412200"/>
                <a:chOff x="3632400" y="4098240"/>
                <a:chExt cx="835200" cy="412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689640" y="409824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632400" y="4098240"/>
                  <a:ext cx="8352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467960" y="4098240"/>
                <a:ext cx="834840" cy="412200"/>
                <a:chOff x="4467960" y="4098240"/>
                <a:chExt cx="834840" cy="4122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525200" y="409824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467960" y="4098240"/>
                  <a:ext cx="8348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303160" y="4098240"/>
                <a:ext cx="812880" cy="412200"/>
                <a:chOff x="5303160" y="4098240"/>
                <a:chExt cx="812880" cy="412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360760" y="4098240"/>
                  <a:ext cx="69768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5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303160" y="4098240"/>
                  <a:ext cx="81288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6116760" y="4098240"/>
                <a:ext cx="2791440" cy="412200"/>
                <a:chOff x="6116760" y="4098240"/>
                <a:chExt cx="2791440" cy="412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174000" y="4098240"/>
                  <a:ext cx="26766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 semanas por módul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116760" y="4098240"/>
                  <a:ext cx="27914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072440" y="4510440"/>
                <a:ext cx="2559600" cy="412200"/>
                <a:chOff x="1072440" y="4510440"/>
                <a:chExt cx="2559600" cy="4122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129680" y="4510440"/>
                  <a:ext cx="24447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ividades Coletiv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072440" y="4510440"/>
                  <a:ext cx="25596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3632400" y="4510440"/>
                <a:ext cx="835200" cy="412200"/>
                <a:chOff x="3632400" y="4510440"/>
                <a:chExt cx="835200" cy="4122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689640" y="451044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632400" y="4510440"/>
                  <a:ext cx="8352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4467960" y="4510440"/>
                <a:ext cx="834840" cy="412200"/>
                <a:chOff x="4467960" y="4510440"/>
                <a:chExt cx="834840" cy="412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525200" y="451044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67960" y="4510440"/>
                  <a:ext cx="8348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5303160" y="4510440"/>
                <a:ext cx="812880" cy="412200"/>
                <a:chOff x="5303160" y="4510440"/>
                <a:chExt cx="812880" cy="4122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360760" y="4510440"/>
                  <a:ext cx="69768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303160" y="4510440"/>
                  <a:ext cx="81288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6116760" y="4510440"/>
                <a:ext cx="2791440" cy="412200"/>
                <a:chOff x="6116760" y="4510440"/>
                <a:chExt cx="2791440" cy="41220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6174000" y="4510440"/>
                  <a:ext cx="26766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vezes por módulo durante 8 hor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6116760" y="4510440"/>
                  <a:ext cx="27914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1072440" y="4923000"/>
                <a:ext cx="2559600" cy="412200"/>
                <a:chOff x="1072440" y="4923000"/>
                <a:chExt cx="2559600" cy="412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129680" y="4923000"/>
                  <a:ext cx="24447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tividades de Avaliaçã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072440" y="4923000"/>
                  <a:ext cx="25596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632400" y="4923000"/>
                <a:ext cx="835200" cy="412200"/>
                <a:chOff x="3632400" y="4923000"/>
                <a:chExt cx="835200" cy="4122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689640" y="492300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632400" y="4923000"/>
                  <a:ext cx="8352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467960" y="4923000"/>
                <a:ext cx="834840" cy="412200"/>
                <a:chOff x="4467960" y="4923000"/>
                <a:chExt cx="834840" cy="41220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525200" y="492300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67960" y="4923000"/>
                  <a:ext cx="8348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303160" y="4923000"/>
                <a:ext cx="812880" cy="412200"/>
                <a:chOff x="5303160" y="4923000"/>
                <a:chExt cx="812880" cy="412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360760" y="4923000"/>
                  <a:ext cx="69768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03160" y="4923000"/>
                  <a:ext cx="81288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116760" y="4923000"/>
                <a:ext cx="2791440" cy="412200"/>
                <a:chOff x="6116760" y="4923000"/>
                <a:chExt cx="2791440" cy="4122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174000" y="4923000"/>
                  <a:ext cx="26766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dia no final de cada  módulo durante 8 hora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16760" y="4923000"/>
                  <a:ext cx="27914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1072440" y="5335200"/>
                <a:ext cx="2559600" cy="412200"/>
                <a:chOff x="1072440" y="5335200"/>
                <a:chExt cx="2559600" cy="4122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129680" y="5335200"/>
                  <a:ext cx="24447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mor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072440" y="5335200"/>
                  <a:ext cx="25596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632400" y="5335200"/>
                <a:ext cx="835200" cy="412200"/>
                <a:chOff x="3632400" y="5335200"/>
                <a:chExt cx="835200" cy="412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689640" y="533520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:3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632400" y="5335200"/>
                  <a:ext cx="83520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4467960" y="5335200"/>
                <a:ext cx="834840" cy="412200"/>
                <a:chOff x="4467960" y="5335200"/>
                <a:chExt cx="834840" cy="4122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4525200" y="5335200"/>
                  <a:ext cx="72036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467960" y="5335200"/>
                  <a:ext cx="8348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303160" y="5335200"/>
                <a:ext cx="812880" cy="412200"/>
                <a:chOff x="5303160" y="5335200"/>
                <a:chExt cx="812880" cy="412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360760" y="5335200"/>
                  <a:ext cx="69768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303160" y="5335200"/>
                  <a:ext cx="81288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6116760" y="5335200"/>
                <a:ext cx="2791440" cy="412200"/>
                <a:chOff x="6116760" y="5335200"/>
                <a:chExt cx="2791440" cy="412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6174000" y="5335200"/>
                  <a:ext cx="2676600" cy="41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 semanas por módul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116760" y="5335200"/>
                  <a:ext cx="2791440" cy="41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072440" y="5747400"/>
                <a:ext cx="2559600" cy="498960"/>
                <a:chOff x="1072440" y="5747400"/>
                <a:chExt cx="2559600" cy="4989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129680" y="5747400"/>
                  <a:ext cx="2444760" cy="4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nograf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072440" y="5747400"/>
                  <a:ext cx="2559600" cy="49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632400" y="5747400"/>
                <a:ext cx="835200" cy="498960"/>
                <a:chOff x="3632400" y="5747400"/>
                <a:chExt cx="835200" cy="498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689640" y="5747400"/>
                  <a:ext cx="720360" cy="4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632400" y="5747400"/>
                  <a:ext cx="835200" cy="49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467960" y="5747400"/>
                <a:ext cx="834840" cy="498960"/>
                <a:chOff x="4467960" y="5747400"/>
                <a:chExt cx="834840" cy="4989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525200" y="5747400"/>
                  <a:ext cx="720360" cy="4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467960" y="5747400"/>
                  <a:ext cx="834840" cy="49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303160" y="5747400"/>
                <a:ext cx="812880" cy="498960"/>
                <a:chOff x="5303160" y="5747400"/>
                <a:chExt cx="812880" cy="4989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360760" y="5747400"/>
                  <a:ext cx="697680" cy="4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303160" y="5747400"/>
                  <a:ext cx="812880" cy="49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16760" y="5747400"/>
                <a:ext cx="2791440" cy="498960"/>
                <a:chOff x="6116760" y="5747400"/>
                <a:chExt cx="2791440" cy="4989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174000" y="5747400"/>
                  <a:ext cx="2676600" cy="49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 semanas por módulo, mais 28 h no Módulo 7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16760" y="5747400"/>
                  <a:ext cx="2791440" cy="49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072440" y="6246720"/>
                <a:ext cx="2559600" cy="455040"/>
                <a:chOff x="1072440" y="6246720"/>
                <a:chExt cx="2559600" cy="4550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072440" y="6246720"/>
                  <a:ext cx="2559600" cy="4550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1072440" y="6246720"/>
                  <a:ext cx="2559240" cy="455040"/>
                  <a:chOff x="1072440" y="6246720"/>
                  <a:chExt cx="2559240" cy="4550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129680" y="6246720"/>
                    <a:ext cx="2444400" cy="4550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otal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072440" y="6246720"/>
                    <a:ext cx="2559240" cy="45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3632400" y="6246720"/>
                <a:ext cx="835200" cy="455040"/>
                <a:chOff x="3632400" y="6246720"/>
                <a:chExt cx="835200" cy="4550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632400" y="6246720"/>
                  <a:ext cx="835200" cy="4550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3632400" y="6246720"/>
                  <a:ext cx="834840" cy="455040"/>
                  <a:chOff x="3632400" y="6246720"/>
                  <a:chExt cx="834840" cy="45504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3689280" y="6246720"/>
                    <a:ext cx="720000" cy="4550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632400" y="6246720"/>
                    <a:ext cx="834840" cy="45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4467960" y="6246720"/>
                <a:ext cx="834840" cy="455040"/>
                <a:chOff x="4467960" y="6246720"/>
                <a:chExt cx="834840" cy="4550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4467960" y="6246720"/>
                  <a:ext cx="834840" cy="4550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467960" y="6246720"/>
                  <a:ext cx="834480" cy="455040"/>
                  <a:chOff x="4467960" y="6246720"/>
                  <a:chExt cx="834480" cy="45504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4524840" y="6246720"/>
                    <a:ext cx="720000" cy="4550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467960" y="6246720"/>
                    <a:ext cx="834480" cy="45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" name=""/>
              <p:cNvGrpSpPr/>
              <p:nvPr/>
            </p:nvGrpSpPr>
            <p:grpSpPr>
              <a:xfrm>
                <a:off x="5303160" y="6246720"/>
                <a:ext cx="812880" cy="455040"/>
                <a:chOff x="5303160" y="6246720"/>
                <a:chExt cx="812880" cy="45504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303160" y="6246720"/>
                  <a:ext cx="812880" cy="4550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1" name=""/>
                <p:cNvGrpSpPr/>
                <p:nvPr/>
              </p:nvGrpSpPr>
              <p:grpSpPr>
                <a:xfrm>
                  <a:off x="5303160" y="6246720"/>
                  <a:ext cx="812520" cy="455040"/>
                  <a:chOff x="5303160" y="6246720"/>
                  <a:chExt cx="812520" cy="45504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360760" y="6246720"/>
                    <a:ext cx="697320" cy="4550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3200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303160" y="6246720"/>
                    <a:ext cx="812520" cy="45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4" name=""/>
              <p:cNvGrpSpPr/>
              <p:nvPr/>
            </p:nvGrpSpPr>
            <p:grpSpPr>
              <a:xfrm>
                <a:off x="6116760" y="6246720"/>
                <a:ext cx="2791440" cy="455040"/>
                <a:chOff x="6116760" y="6246720"/>
                <a:chExt cx="2791440" cy="4550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116760" y="6246720"/>
                  <a:ext cx="2791440" cy="45504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6116760" y="6246720"/>
                  <a:ext cx="2791080" cy="455040"/>
                  <a:chOff x="6116760" y="6246720"/>
                  <a:chExt cx="2791080" cy="4550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6174000" y="6246720"/>
                    <a:ext cx="2676240" cy="4550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116760" y="6246720"/>
                    <a:ext cx="2791080" cy="4550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79" name=""/>
            <p:cNvSpPr/>
            <p:nvPr/>
          </p:nvSpPr>
          <p:spPr>
            <a:xfrm>
              <a:off x="1066680" y="2133720"/>
              <a:ext cx="7848360" cy="4572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ividades a serem desenvolvidas</a:t>
            </a:r>
            <a:endParaRPr b="0" lang="en-US" sz="2800" spc="-1" strike="noStrike">
              <a:solidFill>
                <a:srgbClr val="66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228600" y="0"/>
          <a:ext cx="968688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968688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imensões da Práxis Pedagógica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p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rofessor como 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ofissional</a:t>
            </a: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  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77320" cy="5257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hecimento dos conteúdos escolares do ensino fundamental, e compreensão do seu modo de produção, seus princípios, desdobramentos e implic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ínio de um instrumental específico de trabalho:capacidade  de planejar, desenvolver e avaliar atividades docentes e pedagógicas nos anos iniciais do ensino fundamental e de utilizar com desembaraço a moderna tecnologia da inform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imensões da Práxis Pedagógica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p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rofessor como pensador </a:t>
            </a: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I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reensão da natureza da educação em suas diferentes dimensões: - local, regional, nacional e mund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acidade de produzir saberes pedagógicos, e de contextualizar sua própria prática, relacionando-a de forma crítica aos alunos, à comunidade e à socied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imensões da Práxis Pedagógica: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p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rofessor como cidadão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ação na dinâmica social: perceber-se como pessoa que tem direitos e deveres comuns a todos e, ao mesmo tempo, como um profissional que tem um campo de atuação, um instrumental de trabalho e um ethos específ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iretrizes Curriculares para o Curso Normal Superior         I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orizar a prática pregressa dos professores cursistas e criar condições para o resgate de sua auto-est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fatizar a questão da pluralidade e suas implicações para o respeito à identidade cultural dos professores cursistas e dos seus alu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ear o processo de aprendizagem na (re)significação das experiências pessoais e profissionais dos professores cursistas e prover situações interativas que os ajudem a superar o isolamento no trabalho e no estu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Diretrizes curriculares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 I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zar a formação de acordo com o esquema de ação-reflexão-ação (re)significada e aperfeiçoada, articulando teoria e prática em todos os momentos, desde o início do 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a avaliação como oportunidade de aprendizagem e de crescimento, prevendo situações de verificação e de análise de desempenho ao longo de todo o curso, como subsídio para o replanejamento das atividades e a reorientação dos esforços dos professores cursist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Diretrizes curriculares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I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orizar igualmente as três dimensões da práxis pedagógica, criando espaços e tempos curriculares destinados tanto ao domínio dos conteúdos do ensino fundamental e do instrumental de trabalho docente, quanto para o exercício da participação democrática, a reflexão e a produção de saberes pedagóg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r o processo de formação no contexto da escola em que trabalha o professor cursista e da rede de educação fundamental, estabelecendo parcerias que se traduzam em benefícios para todos os envolv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Diretrizes curriculares</a:t>
            </a: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66ffc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V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evar em conta as questões contemporâneas sobre a produção do conhecimento relacionadas ao rápido envelhecimento da informação factual e ao esmaecimento das fronteiras entre as disciplinas tradicionais, prevendo espaços e tempos curriculares para componentes integradores e estudos interdisciplinares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ncorporar ao próprio currículo do curso, os aspectos éticos, políticos e estéticos a serem observados na elaboração e desenvolvimento das propostas pedagógicas das esco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d2da"/>
            </a:gs>
            <a:gs pos="50000">
              <a:srgbClr val="66ffff"/>
            </a:gs>
            <a:gs pos="100000">
              <a:srgbClr val="6ad2d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Diretrizes curriculares           V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fatizar o processo de construção e re-construção da identidade profissional que perpassa a formação dos educadores, dando unidade aos olhares das ciências básicas da educação em torno do objeto específico nascido da síntese teoria/prática pedagóg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3:26:13Z</dcterms:created>
  <dc:creator>Glaura</dc:creator>
  <dc:description/>
  <dc:language>en-US</dc:language>
  <cp:lastModifiedBy>MCIA</cp:lastModifiedBy>
  <cp:lastPrinted>2001-02-21T14:28:16Z</cp:lastPrinted>
  <dcterms:modified xsi:type="dcterms:W3CDTF">2001-08-07T12:04:33Z</dcterms:modified>
  <cp:revision>38</cp:revision>
  <dc:subject/>
  <dc:title>Projeto Anchieta</dc:title>
</cp:coreProperties>
</file>