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2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05280" y="-360"/>
            <a:ext cx="2982960" cy="482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039680" y="720360"/>
            <a:ext cx="4811760" cy="360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139320"/>
            <a:ext cx="2982960" cy="482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05280" y="9139320"/>
            <a:ext cx="2982960" cy="482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6813E7-23DF-43FA-899D-CA49BB3DF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039680" y="72072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9080" y="4681440"/>
            <a:ext cx="5050080" cy="4454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NOVAS TECNOLOGIAS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NOVA 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EDUCAÇÃO EM REDE </a:t>
            </a:r>
            <a:r>
              <a:rPr b="0" lang="pt-BR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INTERAÇÃ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</a:t>
            </a:r>
            <a:br>
              <a:rPr sz="1200"/>
            </a:br>
            <a:br>
              <a:rPr sz="1200"/>
            </a:b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Comunidades virtuais são os agregados sociais surgidos na Rede, quando os intervenientes de um debate o levam adiante em número e sentimento suficientes para formarem teias de relações pessoais no ciberespaç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heingold, p.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prendizagem colabo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inform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procedi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 val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rí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 solução de proble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2514600" cy="617220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629400"/>
            <a:ext cx="89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d690"/>
                </a:solidFill>
                <a:latin typeface="Arial"/>
              </a:rPr>
              <a:t>Aquifolium Educacional - http://www.aquifolium.com.br/educacional/ - educacional@aquifolium.com.b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abed" descr=""/>
          <p:cNvPicPr/>
          <p:nvPr/>
        </p:nvPicPr>
        <p:blipFill>
          <a:blip r:embed="rId2"/>
          <a:stretch/>
        </p:blipFill>
        <p:spPr>
          <a:xfrm>
            <a:off x="76320" y="763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" name="aquifolium" descr=""/>
          <p:cNvPicPr/>
          <p:nvPr/>
        </p:nvPicPr>
        <p:blipFill>
          <a:blip r:embed="rId3"/>
          <a:stretch/>
        </p:blipFill>
        <p:spPr>
          <a:xfrm>
            <a:off x="152280" y="6562800"/>
            <a:ext cx="1219320" cy="29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00400" y="1752480"/>
            <a:ext cx="510552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QUALIDADE DOS CURSOS A DISTÂNCIA VIA WEB: ONDE BUSC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UMA EXPERIÊNCIA DE DESENVOL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14600" y="22860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QUALIDADE EM CURSOS A DISTÂNCIA VIA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1525680"/>
            <a:ext cx="6477120" cy="43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CR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PACITAÇÃO DE DOCENTES PARA EAD VI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0 HORAS TOTALMENTE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SEADO EM APRENDIZAGEM COLABORATIVA EM COMUNIDADE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98% APONTANDO COMO BOM OU EXCE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133720"/>
            <a:ext cx="2057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CR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CONCLU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66880" y="1219320"/>
            <a:ext cx="647712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10000"/>
              </a:lnSpc>
              <a:spcBef>
                <a:spcPts val="2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NFOQUE METOD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DAGOGIA NO COM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ÊNFASE NA US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LAREZA QUANTO A PÚBLICO-ALVO E PRÉ-REQUI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AQ E MANUAL DO ALU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133720"/>
            <a:ext cx="2057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DESCR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CONCLU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22860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QUALIDADE EM CURSOS A DISTÂNCIA VIA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6880" y="1219320"/>
            <a:ext cx="647712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210000"/>
              </a:lnSpc>
              <a:spcBef>
                <a:spcPts val="2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É-ESCOLA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ÇÃO, ORGANIZAÇÃO E ATUALIZAÇÃO DE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ORMAÇÃO DA COMUN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NIMAÇÃO DA COMUN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TUAÇÃO EM PV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2133720"/>
            <a:ext cx="2057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DESCR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CONCLU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2860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QUALIDADE EM CURSOS A DISTÂNCIA VIA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666880" y="1219320"/>
            <a:ext cx="647712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2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ISTIR AO DESLUMBRAMENTO FRENTE À TECN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VESTIR NA PRÉ-ESCOLA 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OSTAR NA COMUNIDADE VIRTUAL DE APRENDIZAGEM COLABO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133720"/>
            <a:ext cx="2057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DESCR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2860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QUALIDADE EM CURSOS A DISTÂNCIA VIA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66880" y="1819440"/>
            <a:ext cx="647712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Wilson Azevê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lson.azevedo@aquifolium.com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quifolium Edu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ttp://www.aquifolium.com.br/educ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5T18:06:01Z</dcterms:created>
  <dc:creator>chomem</dc:creator>
  <dc:description/>
  <dc:language>en-US</dc:language>
  <cp:lastModifiedBy>Laura</cp:lastModifiedBy>
  <cp:lastPrinted>2001-08-04T05:47:26Z</cp:lastPrinted>
  <dcterms:modified xsi:type="dcterms:W3CDTF">2001-08-22T19:42:27Z</dcterms:modified>
  <cp:revision>184</cp:revision>
  <dc:subject/>
  <dc:title>Slide sem título </dc:title>
</cp:coreProperties>
</file>