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7588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08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72160"/>
            <a:ext cx="9906120" cy="285840"/>
          </a:xfrm>
          <a:prstGeom prst="rect">
            <a:avLst/>
          </a:prstGeom>
          <a:solidFill>
            <a:srgbClr val="000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781200"/>
            <a:ext cx="9906120" cy="133200"/>
          </a:xfrm>
          <a:prstGeom prst="rect">
            <a:avLst/>
          </a:prstGeom>
          <a:solidFill>
            <a:srgbClr val="0000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Info@socinfo.org.br" TargetMode="External"/><Relationship Id="rId2" Type="http://schemas.openxmlformats.org/officeDocument/2006/relationships/hyperlink" Target="mailto:Info@socinfo.org.br" TargetMode="External"/><Relationship Id="rId3" Type="http://schemas.openxmlformats.org/officeDocument/2006/relationships/hyperlink" Target="mailto:Info@socinfo.org.br" TargetMode="External"/><Relationship Id="rId4" Type="http://schemas.openxmlformats.org/officeDocument/2006/relationships/hyperlink" Target="mailto:Info@socinfo.org.br" TargetMode="External"/><Relationship Id="rId5" Type="http://schemas.openxmlformats.org/officeDocument/2006/relationships/hyperlink" Target="mailto:Info@socinfo.org.br" TargetMode="External"/><Relationship Id="rId6" Type="http://schemas.openxmlformats.org/officeDocument/2006/relationships/hyperlink" Target="mailto:Info@socinfo.org.br" TargetMode="External"/><Relationship Id="rId7" Type="http://schemas.openxmlformats.org/officeDocument/2006/relationships/hyperlink" Target="mailto:Info@socinfo.org.br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74960"/>
            <a:ext cx="990612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A Sociedade da Informação e do Conheci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Desafios e Oportun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7a"/>
                </a:solidFill>
                <a:latin typeface="Verdana"/>
              </a:rPr>
              <a:t>VIII Congresso Internacion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De Educação a Dist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7a"/>
                </a:solidFill>
                <a:latin typeface="Verdana"/>
              </a:rPr>
              <a:t>Maria Inês B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7a"/>
                </a:solidFill>
                <a:latin typeface="Verdana"/>
              </a:rPr>
              <a:t>Brasília, 06/08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8840" y="1017720"/>
            <a:ext cx="57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76480" y="1623960"/>
            <a:ext cx="847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Os Maiores do Internet Banking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milhões de usuários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95520" y="2425680"/>
            <a:ext cx="6141960" cy="3713400"/>
            <a:chOff x="1595520" y="2425680"/>
            <a:chExt cx="6141960" cy="3713400"/>
          </a:xfrm>
        </p:grpSpPr>
        <p:grpSp>
          <p:nvGrpSpPr>
            <p:cNvPr id="179" name=""/>
            <p:cNvGrpSpPr/>
            <p:nvPr/>
          </p:nvGrpSpPr>
          <p:grpSpPr>
            <a:xfrm>
              <a:off x="1673280" y="2539800"/>
              <a:ext cx="5807160" cy="3238560"/>
              <a:chOff x="1673280" y="2539800"/>
              <a:chExt cx="5807160" cy="32385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1673280" y="5181480"/>
                <a:ext cx="5807160" cy="596880"/>
                <a:chOff x="1673280" y="5181480"/>
                <a:chExt cx="5807160" cy="596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673280" y="5511960"/>
                  <a:ext cx="5807160" cy="266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673280" y="5181480"/>
                  <a:ext cx="5807160" cy="266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673280" y="4521240"/>
                <a:ext cx="5807160" cy="596880"/>
                <a:chOff x="1673280" y="4521240"/>
                <a:chExt cx="5807160" cy="596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73280" y="4851720"/>
                  <a:ext cx="5807160" cy="266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673280" y="4521240"/>
                  <a:ext cx="5807160" cy="266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673280" y="3860640"/>
                <a:ext cx="5807160" cy="596880"/>
                <a:chOff x="1673280" y="3860640"/>
                <a:chExt cx="5807160" cy="5968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1673280" y="4191120"/>
                  <a:ext cx="5807160" cy="266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1673280" y="3860640"/>
                  <a:ext cx="5807160" cy="266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1673280" y="2539800"/>
                <a:ext cx="5807160" cy="1257480"/>
                <a:chOff x="1673280" y="2539800"/>
                <a:chExt cx="5807160" cy="1257480"/>
              </a:xfrm>
            </p:grpSpPr>
            <p:grpSp>
              <p:nvGrpSpPr>
                <p:cNvPr id="190" name=""/>
                <p:cNvGrpSpPr/>
                <p:nvPr/>
              </p:nvGrpSpPr>
              <p:grpSpPr>
                <a:xfrm>
                  <a:off x="1673280" y="3200400"/>
                  <a:ext cx="5807160" cy="596880"/>
                  <a:chOff x="1673280" y="3200400"/>
                  <a:chExt cx="5807160" cy="5968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1673280" y="3530880"/>
                    <a:ext cx="5807160" cy="26640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673280" y="3200400"/>
                    <a:ext cx="5807160" cy="2667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1673280" y="2539800"/>
                  <a:ext cx="5807160" cy="596880"/>
                  <a:chOff x="1673280" y="2539800"/>
                  <a:chExt cx="5807160" cy="5968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1673280" y="2870280"/>
                    <a:ext cx="5807160" cy="26640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673280" y="2539800"/>
                    <a:ext cx="5807160" cy="2667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6" name=""/>
            <p:cNvSpPr/>
            <p:nvPr/>
          </p:nvSpPr>
          <p:spPr>
            <a:xfrm>
              <a:off x="1595520" y="2425680"/>
              <a:ext cx="4478400" cy="36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. Bank of America (EUA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. Wells Fargo (EUA)</a:t>
              </a:r>
              <a:br>
                <a:rPr sz="1800"/>
              </a:br>
              <a:r>
                <a:rPr b="1" lang="en-US" sz="1800" spc="-1" strike="noStrike">
                  <a:solidFill>
                    <a:srgbClr val="006600"/>
                  </a:solidFill>
                  <a:latin typeface="Verdana"/>
                </a:rPr>
                <a:t>3. Bradesco (Brasil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4. MeritaNordbanken (Finlândia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5. EGG (Inglaterra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6. Royal Bank of Canada (Canadá)</a:t>
              </a:r>
              <a:br>
                <a:rPr sz="1800"/>
              </a:b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7. Banco do Brasil (Brasil)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8. Citigroup (EUA) </a:t>
              </a:r>
              <a:br>
                <a:rPr sz="1800"/>
              </a:b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9. Chase (EUA)</a:t>
              </a:r>
              <a:br>
                <a:rPr sz="1800"/>
              </a:b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10. Itaú (Brasi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Verdana"/>
                </a:rPr>
                <a:t>(*) Posição no início de set/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05600" y="2425680"/>
              <a:ext cx="731880" cy="371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,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00"/>
                  </a:solidFill>
                  <a:latin typeface="Verdana"/>
                </a:rPr>
                <a:t>1,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0,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0,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</a:rPr>
                <a:t>0,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Verdana"/>
                </a:rPr>
                <a:t>0,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84360" y="6237360"/>
            <a:ext cx="473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Fonte: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7200" y="105552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76480" y="1623960"/>
            <a:ext cx="79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Aplicações Governamentais de Destaque </a:t>
            </a:r>
            <a:br>
              <a:rPr sz="2400"/>
            </a:b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  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65400" y="2579760"/>
            <a:ext cx="7792920" cy="3142080"/>
            <a:chOff x="1265400" y="2579760"/>
            <a:chExt cx="7792920" cy="3142080"/>
          </a:xfrm>
        </p:grpSpPr>
        <p:sp>
          <p:nvSpPr>
            <p:cNvPr id="203" name=""/>
            <p:cNvSpPr/>
            <p:nvPr/>
          </p:nvSpPr>
          <p:spPr>
            <a:xfrm>
              <a:off x="1569960" y="3011400"/>
              <a:ext cx="7488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5.559 municípios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310.587 urnas instaladas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92.230.241 eleitores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(90% dos dados contabilizados em menos de 24 hora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5400" y="2579760"/>
              <a:ext cx="74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Eleições Eletrô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9960" y="5018040"/>
              <a:ext cx="748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11,1 milhões de declarações entregues em meio eletrônico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(90,2% do total de declaraçõe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65400" y="4586400"/>
              <a:ext cx="74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Imposto de Renda - Receita Fede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1680" y="107460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3. Grandes Desafios à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i13i" descr=""/>
          <p:cNvPicPr/>
          <p:nvPr/>
        </p:nvPicPr>
        <p:blipFill>
          <a:blip r:embed="rId1"/>
          <a:stretch/>
        </p:blipFill>
        <p:spPr>
          <a:xfrm>
            <a:off x="2421000" y="2311560"/>
            <a:ext cx="5794200" cy="3555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068720" y="5837400"/>
            <a:ext cx="29289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66"/>
                </a:solidFill>
                <a:uFillTx/>
                <a:latin typeface="Verdana"/>
                <a:hlinkClick r:id="rId2" action="ppaction://hlinksldjump"/>
              </a:rPr>
              <a:t>Desenvolvimento Tecn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68280" y="3456000"/>
            <a:ext cx="2687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66"/>
                </a:solidFill>
                <a:uFillTx/>
                <a:latin typeface="Verdana"/>
                <a:hlinkClick r:id="rId3" action="ppaction://hlinksldjump"/>
              </a:rPr>
              <a:t>Universalização de Serviç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24520" y="3265560"/>
            <a:ext cx="24084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66"/>
                </a:solidFill>
                <a:uFillTx/>
                <a:latin typeface="Verdana"/>
                <a:hlinkClick r:id="rId4" action="ppaction://hlinksldjump"/>
              </a:rPr>
              <a:t>Mercado, Trabalho 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94080" y="1708200"/>
            <a:ext cx="19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Verdana"/>
              </a:rPr>
              <a:t>Soc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0760" y="101772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3. Grandes Desafios à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4440" y="1625760"/>
            <a:ext cx="65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Universalização d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311480" y="2251080"/>
            <a:ext cx="6789600" cy="4133520"/>
            <a:chOff x="1311480" y="2251080"/>
            <a:chExt cx="6789600" cy="4133520"/>
          </a:xfrm>
        </p:grpSpPr>
        <p:sp>
          <p:nvSpPr>
            <p:cNvPr id="218" name=""/>
            <p:cNvSpPr/>
            <p:nvPr/>
          </p:nvSpPr>
          <p:spPr>
            <a:xfrm>
              <a:off x="1526400" y="4307040"/>
              <a:ext cx="4327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Equipamentos baratos de acess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8800" y="2251080"/>
              <a:ext cx="6542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É necessário ir além da “audiência inercial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(Classe A, B e C1) e buscar ativamente expand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o acesso à Internet e a seus serviços para 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outras clas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11480" y="3951360"/>
              <a:ext cx="224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O que fa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60600" y="5487840"/>
              <a:ext cx="59958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Conteúdos adequados e em língua portugues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69960" y="4700520"/>
              <a:ext cx="54943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Menor custo de comunicação e de serviço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78520" y="5094360"/>
              <a:ext cx="2789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Alfabetização digital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48360" y="5894280"/>
              <a:ext cx="47203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Novos modelos de acesso à Interne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600" y="109368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3. Grandes Desafios à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4440" y="1612800"/>
            <a:ext cx="77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Mercado, Trabalho 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314720" y="2251080"/>
            <a:ext cx="6878520" cy="3727080"/>
            <a:chOff x="1314720" y="2251080"/>
            <a:chExt cx="6878520" cy="3727080"/>
          </a:xfrm>
        </p:grpSpPr>
        <p:sp>
          <p:nvSpPr>
            <p:cNvPr id="229" name=""/>
            <p:cNvSpPr/>
            <p:nvPr/>
          </p:nvSpPr>
          <p:spPr>
            <a:xfrm>
              <a:off x="1585800" y="2251080"/>
              <a:ext cx="6607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s empresas precisam se conectar à Internet para oferecer/buscar serviços. Cadeias de valor precisam ser modernizadas com o uso intensivo das tecnologias de informação e comunicaçã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14720" y="3938760"/>
              <a:ext cx="224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O que fa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90760" y="4307040"/>
              <a:ext cx="35269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ccecff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Mobilização das empresa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77520" y="4700520"/>
              <a:ext cx="5741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Apoio especial a Pequenas e Micro Empresa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35760" y="5094360"/>
              <a:ext cx="43531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Fomento ao Comércio Eletrônico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98680" y="5487840"/>
              <a:ext cx="41670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Apoio a ações empreendedora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50760" y="1093680"/>
            <a:ext cx="434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3. Grandes Desafios à F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4440" y="1625760"/>
            <a:ext cx="65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Desenvolviment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327680" y="2251080"/>
            <a:ext cx="7675200" cy="3970080"/>
            <a:chOff x="1327680" y="2251080"/>
            <a:chExt cx="7675200" cy="3970080"/>
          </a:xfrm>
        </p:grpSpPr>
        <p:sp>
          <p:nvSpPr>
            <p:cNvPr id="239" name=""/>
            <p:cNvSpPr/>
            <p:nvPr/>
          </p:nvSpPr>
          <p:spPr>
            <a:xfrm>
              <a:off x="1554120" y="2251080"/>
              <a:ext cx="744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É necessário aumentar significativamente a abrangência, capilaridade e leque de serviços da Internet no Brasil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27680" y="4141800"/>
              <a:ext cx="224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1" lang="pt-BR" sz="2400" spc="-1" strike="noStrike">
                  <a:solidFill>
                    <a:srgbClr val="004c00"/>
                  </a:solidFill>
                  <a:latin typeface="Verdana"/>
                </a:rPr>
                <a:t>O que faz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30800" y="4548240"/>
              <a:ext cx="48103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Internet de Nova Geração (Internet2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47640" y="3341520"/>
              <a:ext cx="744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É necessário multiplicar recursos humanos avanç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em tecnologias, aplicações, conteúdos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94000" y="4950000"/>
              <a:ext cx="26902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Recursos Humano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6880" y="5346720"/>
              <a:ext cx="367488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Oportunidades de Mercad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35040" y="5730840"/>
              <a:ext cx="366552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buClr>
                  <a:srgbClr val="ff9900"/>
                </a:buClr>
                <a:buSzPct val="70000"/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4c00"/>
                  </a:solidFill>
                  <a:latin typeface="Verdana"/>
                </a:rPr>
                <a:t>Aplicações em outras Área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-16200" y="1093680"/>
            <a:ext cx="38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4. Enfrentando Desaf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44440" y="1625760"/>
            <a:ext cx="65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Uma Corrida Mund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24000" y="2450160"/>
            <a:ext cx="9267840" cy="2933640"/>
            <a:chOff x="324000" y="2450160"/>
            <a:chExt cx="9267840" cy="2933640"/>
          </a:xfrm>
        </p:grpSpPr>
        <p:grpSp>
          <p:nvGrpSpPr>
            <p:cNvPr id="250" name=""/>
            <p:cNvGrpSpPr/>
            <p:nvPr/>
          </p:nvGrpSpPr>
          <p:grpSpPr>
            <a:xfrm>
              <a:off x="324000" y="2450160"/>
              <a:ext cx="9261360" cy="371160"/>
              <a:chOff x="324000" y="2450160"/>
              <a:chExt cx="9261360" cy="371160"/>
            </a:xfrm>
          </p:grpSpPr>
          <p:sp>
            <p:nvSpPr>
              <p:cNvPr id="251" name=""/>
              <p:cNvSpPr/>
              <p:nvPr/>
            </p:nvSpPr>
            <p:spPr>
              <a:xfrm>
                <a:off x="324000" y="2450160"/>
                <a:ext cx="591012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Information Highway Advisory Counc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04200" y="2453040"/>
                <a:ext cx="2981160" cy="3682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Canadá (1994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27240" y="2913480"/>
              <a:ext cx="9258120" cy="369360"/>
              <a:chOff x="327240" y="2913480"/>
              <a:chExt cx="9258120" cy="369360"/>
            </a:xfrm>
          </p:grpSpPr>
          <p:sp>
            <p:nvSpPr>
              <p:cNvPr id="254" name=""/>
              <p:cNvSpPr/>
              <p:nvPr/>
            </p:nvSpPr>
            <p:spPr>
              <a:xfrm>
                <a:off x="327240" y="2914560"/>
                <a:ext cx="5906880" cy="368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Information Society in Finlan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00960" y="2913480"/>
                <a:ext cx="2984400" cy="3682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Finlândia (1996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27240" y="3378240"/>
              <a:ext cx="9264600" cy="642600"/>
              <a:chOff x="327240" y="3378240"/>
              <a:chExt cx="9264600" cy="642600"/>
            </a:xfrm>
          </p:grpSpPr>
          <p:sp>
            <p:nvSpPr>
              <p:cNvPr id="257" name=""/>
              <p:cNvSpPr/>
              <p:nvPr/>
            </p:nvSpPr>
            <p:spPr>
              <a:xfrm>
                <a:off x="327240" y="3511080"/>
                <a:ext cx="5911560" cy="3682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Missão para a Sociedade da Informação de Portug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00960" y="3378240"/>
                <a:ext cx="2990880" cy="64260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Portugal (1997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27240" y="4107240"/>
              <a:ext cx="9262800" cy="368280"/>
              <a:chOff x="327240" y="4107240"/>
              <a:chExt cx="9262800" cy="368280"/>
            </a:xfrm>
          </p:grpSpPr>
          <p:sp>
            <p:nvSpPr>
              <p:cNvPr id="260" name=""/>
              <p:cNvSpPr/>
              <p:nvPr/>
            </p:nvSpPr>
            <p:spPr>
              <a:xfrm>
                <a:off x="327240" y="4107240"/>
                <a:ext cx="5913360" cy="368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CyberKorea 2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00960" y="4107240"/>
                <a:ext cx="2989080" cy="36828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Coréia do Sul (1999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27240" y="4564440"/>
              <a:ext cx="9262800" cy="368280"/>
              <a:chOff x="327240" y="4564440"/>
              <a:chExt cx="9262800" cy="368280"/>
            </a:xfrm>
          </p:grpSpPr>
          <p:sp>
            <p:nvSpPr>
              <p:cNvPr id="263" name=""/>
              <p:cNvSpPr/>
              <p:nvPr/>
            </p:nvSpPr>
            <p:spPr>
              <a:xfrm>
                <a:off x="327240" y="4564440"/>
                <a:ext cx="591336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InfoXXI:a Sociedade da Informação para Tod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00960" y="4564440"/>
                <a:ext cx="2989080" cy="368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Espanha (200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327240" y="5015520"/>
              <a:ext cx="9258120" cy="368280"/>
              <a:chOff x="327240" y="5015520"/>
              <a:chExt cx="9258120" cy="368280"/>
            </a:xfrm>
          </p:grpSpPr>
          <p:sp>
            <p:nvSpPr>
              <p:cNvPr id="266" name=""/>
              <p:cNvSpPr/>
              <p:nvPr/>
            </p:nvSpPr>
            <p:spPr>
              <a:xfrm>
                <a:off x="327240" y="5015520"/>
                <a:ext cx="5906880" cy="3682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eEurope 2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600960" y="5015520"/>
                <a:ext cx="2984400" cy="368280"/>
              </a:xfrm>
              <a:prstGeom prst="rect">
                <a:avLst/>
              </a:prstGeom>
              <a:solidFill>
                <a:srgbClr val="ff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7a"/>
                    </a:solidFill>
                    <a:latin typeface="Verdana"/>
                  </a:rPr>
                  <a:t>União Européia (2000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5120" y="979560"/>
            <a:ext cx="56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4. Enfrentando Desafios: Ações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20800" y="1538640"/>
            <a:ext cx="849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860400" y="1835280"/>
            <a:ext cx="8683200" cy="3555000"/>
            <a:chOff x="860400" y="1835280"/>
            <a:chExt cx="8683200" cy="3555000"/>
          </a:xfrm>
        </p:grpSpPr>
        <p:sp>
          <p:nvSpPr>
            <p:cNvPr id="271" name=""/>
            <p:cNvSpPr/>
            <p:nvPr/>
          </p:nvSpPr>
          <p:spPr>
            <a:xfrm>
              <a:off x="860400" y="1835280"/>
              <a:ext cx="84420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1997 -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Lançamento do documento: </a:t>
              </a: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Ciência e Tecnologia para a Construção da Sociedade da Informação no Brasil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, Conselho Nacional de Ciência e Tecnologia da Presidência da</a:t>
              </a:r>
              <a:r>
                <a:rPr b="0" lang="pt-BR" sz="20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República (CCT). Coordenador: Carlos José Pereira Luce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73000" y="3419640"/>
              <a:ext cx="8670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1999 - Lançamento do Programa Sociedade da Informação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Decreto Presidencial nº 3294, em 15 de dezembro de 1999 Presidência da Repúbl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98200" y="4686480"/>
              <a:ext cx="864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2000 - 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Lançamento do documento</a:t>
              </a: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: Sociedade da Informação no Brasil</a:t>
              </a:r>
              <a:r>
                <a:rPr b="1" lang="pt-BR" sz="2000" spc="-1" strike="noStrike">
                  <a:solidFill>
                    <a:srgbClr val="000066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Verdana"/>
                </a:rPr>
                <a:t>- Livro Verde.</a:t>
              </a:r>
              <a:r>
                <a:rPr b="0" lang="en-US" sz="2000" spc="-1" strike="noStrike">
                  <a:solidFill>
                    <a:srgbClr val="000066"/>
                  </a:solidFill>
                  <a:latin typeface="Verdana"/>
                </a:rPr>
                <a:t> Coordenador: Tadao Takahash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2720" y="1055520"/>
            <a:ext cx="62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4. Enfrentando Desafios: O Programa Soc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79640" y="1758960"/>
            <a:ext cx="25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0360" y="1641600"/>
            <a:ext cx="5243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92400" y="2554200"/>
            <a:ext cx="7304040" cy="3485520"/>
            <a:chOff x="1292400" y="2554200"/>
            <a:chExt cx="7304040" cy="3485520"/>
          </a:xfrm>
        </p:grpSpPr>
        <p:sp>
          <p:nvSpPr>
            <p:cNvPr id="278" name=""/>
            <p:cNvSpPr/>
            <p:nvPr/>
          </p:nvSpPr>
          <p:spPr>
            <a:xfrm>
              <a:off x="1562040" y="2554200"/>
              <a:ext cx="35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Na Internet brasileir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2400" y="3054600"/>
              <a:ext cx="714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rticular novo salto de evolução em infra-estrutura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  e serviço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81120" y="5335920"/>
              <a:ext cx="701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tendo como foco a contribuição da área pa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o </a:t>
              </a:r>
              <a:r>
                <a:rPr b="1" lang="pt-BR" sz="2000" spc="-1" strike="noStrike" u="sng">
                  <a:solidFill>
                    <a:srgbClr val="00007a"/>
                  </a:solidFill>
                  <a:uFillTx/>
                  <a:latin typeface="Verdana"/>
                </a:rPr>
                <a:t>desenvolvimento econômico e social do paí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92400" y="3912840"/>
              <a:ext cx="71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rticular ações do setor público e setor privado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2400" y="4428000"/>
              <a:ext cx="71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Fomentar o desenvolvimento tecnológico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 flipV="1">
            <a:off x="2066760" y="2505240"/>
            <a:ext cx="5715000" cy="32004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8200" y="1093680"/>
            <a:ext cx="60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4. Enfrentando Desafios: O Programa Soc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66760" y="1631880"/>
            <a:ext cx="79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Implantação em 3 estág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87200" y="5595840"/>
            <a:ext cx="1943280" cy="520200"/>
            <a:chOff x="187200" y="5595840"/>
            <a:chExt cx="1943280" cy="520200"/>
          </a:xfrm>
        </p:grpSpPr>
        <p:sp>
          <p:nvSpPr>
            <p:cNvPr id="287" name=""/>
            <p:cNvSpPr/>
            <p:nvPr/>
          </p:nvSpPr>
          <p:spPr>
            <a:xfrm>
              <a:off x="187200" y="5595840"/>
              <a:ext cx="178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7a"/>
                  </a:solidFill>
                  <a:latin typeface="Verdana"/>
                </a:rPr>
                <a:t>início</a:t>
              </a: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br>
                <a:rPr sz="1400"/>
              </a:b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julho 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11240" y="5619600"/>
              <a:ext cx="219240" cy="2192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-1336680" y="4052880"/>
            <a:ext cx="4743360" cy="1057320"/>
            <a:chOff x="-1336680" y="4052880"/>
            <a:chExt cx="4743360" cy="1057320"/>
          </a:xfrm>
        </p:grpSpPr>
        <p:pic>
          <p:nvPicPr>
            <p:cNvPr id="290" name="logo" descr=""/>
            <p:cNvPicPr/>
            <p:nvPr/>
          </p:nvPicPr>
          <p:blipFill>
            <a:blip r:embed="rId1"/>
            <a:stretch/>
          </p:blipFill>
          <p:spPr>
            <a:xfrm>
              <a:off x="2776680" y="4481640"/>
              <a:ext cx="5047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-1336680" y="4052880"/>
              <a:ext cx="4743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7a"/>
                  </a:solidFill>
                  <a:latin typeface="Verdana"/>
                </a:rPr>
                <a:t>Lançamento do Programa</a:t>
              </a: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br>
                <a:rPr sz="1400"/>
              </a:b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dezembro 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657520" y="3246480"/>
            <a:ext cx="2822400" cy="1301760"/>
            <a:chOff x="2657520" y="3246480"/>
            <a:chExt cx="2822400" cy="1301760"/>
          </a:xfrm>
        </p:grpSpPr>
        <p:pic>
          <p:nvPicPr>
            <p:cNvPr id="293" name="livroverde_capa" descr=""/>
            <p:cNvPicPr/>
            <p:nvPr/>
          </p:nvPicPr>
          <p:blipFill>
            <a:blip r:embed="rId2"/>
            <a:stretch/>
          </p:blipFill>
          <p:spPr>
            <a:xfrm>
              <a:off x="4557600" y="3246480"/>
              <a:ext cx="922320" cy="13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657520" y="3338640"/>
              <a:ext cx="194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7a"/>
                  </a:solidFill>
                  <a:latin typeface="Verdana"/>
                </a:rPr>
                <a:t>Livro Verde</a:t>
              </a: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br>
                <a:rPr sz="1400"/>
              </a:b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agosto 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577960" y="5329080"/>
            <a:ext cx="39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7a"/>
                </a:solidFill>
                <a:latin typeface="Verdana"/>
              </a:rPr>
              <a:t>Estudos Prelimina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7920" y="4662360"/>
            <a:ext cx="39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7a"/>
                </a:solidFill>
                <a:latin typeface="Verdana"/>
              </a:rPr>
              <a:t>Debates de Especial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4629240" y="2500200"/>
            <a:ext cx="2320920" cy="642960"/>
            <a:chOff x="4629240" y="2500200"/>
            <a:chExt cx="2320920" cy="642960"/>
          </a:xfrm>
        </p:grpSpPr>
        <p:sp>
          <p:nvSpPr>
            <p:cNvPr id="298" name=""/>
            <p:cNvSpPr/>
            <p:nvPr/>
          </p:nvSpPr>
          <p:spPr>
            <a:xfrm>
              <a:off x="6730920" y="2924280"/>
              <a:ext cx="219240" cy="218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29240" y="2500200"/>
              <a:ext cx="225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7a"/>
                  </a:solidFill>
                  <a:latin typeface="Verdana"/>
                </a:rPr>
                <a:t>Livro Branco</a:t>
              </a:r>
              <a:r>
                <a:rPr b="0" lang="pt-BR" sz="14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5749920" y="3548160"/>
            <a:ext cx="39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7a"/>
                </a:solidFill>
                <a:latin typeface="Verdana"/>
              </a:rPr>
              <a:t>Consulta à Socieda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696080" y="1514520"/>
            <a:ext cx="1505160" cy="1185840"/>
            <a:chOff x="7696080" y="1514520"/>
            <a:chExt cx="1505160" cy="1185840"/>
          </a:xfrm>
        </p:grpSpPr>
        <p:pic>
          <p:nvPicPr>
            <p:cNvPr id="302" name="foguete" descr=""/>
            <p:cNvPicPr/>
            <p:nvPr/>
          </p:nvPicPr>
          <p:blipFill>
            <a:blip r:embed="rId3"/>
            <a:stretch/>
          </p:blipFill>
          <p:spPr>
            <a:xfrm>
              <a:off x="7696080" y="1528920"/>
              <a:ext cx="144792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8991720" y="1514520"/>
              <a:ext cx="20952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319400" y="1427040"/>
            <a:ext cx="8586720" cy="5227200"/>
            <a:chOff x="1319400" y="1427040"/>
            <a:chExt cx="8586720" cy="5227200"/>
          </a:xfrm>
        </p:grpSpPr>
        <p:sp>
          <p:nvSpPr>
            <p:cNvPr id="43" name="">
              <a:hlinkClick r:id="rId1" action="ppaction://hlinksldjump"/>
            </p:cNvPr>
            <p:cNvSpPr/>
            <p:nvPr/>
          </p:nvSpPr>
          <p:spPr>
            <a:xfrm>
              <a:off x="1319400" y="1427040"/>
              <a:ext cx="10951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>
              <a:hlinkClick r:id="rId2" action="ppaction://hlinksldjump"/>
            </p:cNvPr>
            <p:cNvSpPr/>
            <p:nvPr/>
          </p:nvSpPr>
          <p:spPr>
            <a:xfrm>
              <a:off x="1789200" y="2068200"/>
              <a:ext cx="8116920" cy="45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A Sociedade da Informaçã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Oportunidades: a Internet no Brasil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Os Desafios à Fren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Enfrentando Desafi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3467cc"/>
                </a:buClr>
                <a:buFont typeface="Verdan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7a"/>
                  </a:solidFill>
                  <a:latin typeface="Verdana"/>
                </a:rPr>
                <a:t>A Educação e a Sociedade do Conheci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>
              <a:hlinkClick r:id="rId3" action="ppaction://hlinksldjump"/>
            </p:cNvPr>
            <p:cNvSpPr/>
            <p:nvPr/>
          </p:nvSpPr>
          <p:spPr>
            <a:xfrm>
              <a:off x="1827720" y="2754000"/>
              <a:ext cx="462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467cc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467cc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467cc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952280" y="1193040"/>
            <a:ext cx="17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Sumár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280880" y="1579680"/>
            <a:ext cx="28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Linhas de 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51000" y="3029040"/>
            <a:ext cx="386712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Mercado, Trabalho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51000" y="4048200"/>
            <a:ext cx="3870360" cy="914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Universalização de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Serviços para a Cidad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2133720"/>
            <a:ext cx="3927600" cy="685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Educação na Sociedade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d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2895480"/>
            <a:ext cx="3924360" cy="685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Conteúdos e Identidade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Cul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3657600"/>
            <a:ext cx="3924360" cy="6858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Governo ao Alcance 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de To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257800" y="4419720"/>
            <a:ext cx="3924360" cy="685800"/>
          </a:xfrm>
          <a:prstGeom prst="rect">
            <a:avLst/>
          </a:prstGeom>
          <a:solidFill>
            <a:srgbClr val="57d5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P&amp;D, Tecnologias-chave 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e Aplic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5181480"/>
            <a:ext cx="3924360" cy="685800"/>
          </a:xfrm>
          <a:prstGeom prst="rect">
            <a:avLst/>
          </a:prstGeom>
          <a:solidFill>
            <a:srgbClr val="5eca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99ff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Infra-estrutura Avançada </a:t>
            </a:r>
            <a:br>
              <a:rPr sz="1800"/>
            </a:b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    e Novos 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2720" y="1055520"/>
            <a:ext cx="62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4. Enfrentando Desafios: O Programa Soc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4880" y="1143000"/>
            <a:ext cx="8553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5. A Educação e a Sociedade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0280" y="1885680"/>
            <a:ext cx="8286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Gerar competências específicas e desenvolver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Capacidade de aprendizagem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Capacidade de lidar com a flexibilidade nas operações e no ambiente organiz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Capacidade de atuar com autonomia e em várias fun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Capacidade de adap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95256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5. A Educação e a Sociedade do 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47640" y="1657080"/>
            <a:ext cx="859176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Os saberes necessários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A natureza do conhecimento humano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preparar para o risco permanente do erro e da ilu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O conhecimento pertinente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superar a fragmentação e desenvolver as aptidões individ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A condição humana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pôr em evidência o elo indissolúvel entre a unidade e a diversidade d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3467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O destino comum do homem no planeta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mostra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solidariedade sem ocultar a opressão, a dominação e os problemas compartilhados por 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95256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Verdana"/>
              </a:rPr>
              <a:t>5. A Educação e a Sociedade do 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47640" y="1333440"/>
            <a:ext cx="8591760" cy="48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Verdana"/>
              </a:rPr>
              <a:t>Os saberes necessários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O caráter da aventura humana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aprender a navegar entre ilhas de certeza, enfrentando o imprevisto e o in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O essencial nas relações humanas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desenvolver a compreensão mút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3467cc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7a"/>
                </a:solidFill>
                <a:uFillTx/>
                <a:latin typeface="Verdana"/>
              </a:rPr>
              <a:t>A ética da democracia e da cidadania</a:t>
            </a:r>
            <a:r>
              <a:rPr b="1" lang="pt-BR" sz="2000" spc="-1" strike="noStrike">
                <a:solidFill>
                  <a:srgbClr val="00007a"/>
                </a:solidFill>
                <a:latin typeface="Verdana"/>
              </a:rPr>
              <a:t>: desenvolver a autonomia individual, a participação comunitária e a consciência de pertencer à comunidade hum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2513520" y="2646360"/>
            <a:ext cx="41720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www.socinfo.org.br</a:t>
            </a:r>
            <a:br>
              <a:rPr sz="3200"/>
            </a:b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bastos@socinfo.org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i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1"/>
              </a:rPr>
              <a:t>nfo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2"/>
              </a:rPr>
              <a:t>@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3"/>
              </a:rPr>
              <a:t>socinfo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4"/>
              </a:rPr>
              <a:t>.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5"/>
              </a:rPr>
              <a:t>org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6"/>
              </a:rPr>
              <a:t>.</a:t>
            </a:r>
            <a:r>
              <a:rPr b="0" lang="pt-BR" sz="2400" spc="-1" strike="noStrike" u="sng">
                <a:solidFill>
                  <a:srgbClr val="000066"/>
                </a:solidFill>
                <a:uFillTx/>
                <a:latin typeface="Verdana"/>
                <a:hlinkClick r:id="rId7"/>
              </a:rPr>
              <a:t>br</a:t>
            </a: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73240" y="1023840"/>
            <a:ext cx="61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1. A Sociedade da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343080" y="1778040"/>
            <a:ext cx="57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Um novo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2590920"/>
            <a:ext cx="8381880" cy="39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Informação como insumo cent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Penetrabilidade dos efeitos das novas tecnologi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Lógica de redes dominante em todos os tipos de processos e organiza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Flexibilidade, capacidade de re-configur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c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7a"/>
                </a:solidFill>
                <a:latin typeface="Verdana"/>
              </a:rPr>
              <a:t>Convergência de tecnolog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1440" y="107460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A Sociedade d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0000" y="1625760"/>
            <a:ext cx="67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Elementos históricos do parad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62000" y="2525760"/>
            <a:ext cx="7697520" cy="3487680"/>
            <a:chOff x="1062000" y="2525760"/>
            <a:chExt cx="7697520" cy="3487680"/>
          </a:xfrm>
        </p:grpSpPr>
        <p:sp>
          <p:nvSpPr>
            <p:cNvPr id="56" name=""/>
            <p:cNvSpPr/>
            <p:nvPr/>
          </p:nvSpPr>
          <p:spPr>
            <a:xfrm>
              <a:off x="1062000" y="2525760"/>
              <a:ext cx="7658640" cy="34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Verdana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Redes de empres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Verdana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Ferramentas tecnológic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Verdana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Concorrência glob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Verdana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Funções do Estado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Desenvolvimentis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Agente de mudanças institucion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	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- Mensageiro do novo paradig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00880" y="298944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00880" y="344664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00880" y="3913200"/>
              <a:ext cx="7658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00880" y="46753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00880" y="512316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1440" y="107460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A Sociedade d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0800" y="1587600"/>
            <a:ext cx="53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Características Estrut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062000" y="2220840"/>
            <a:ext cx="7697520" cy="3534120"/>
            <a:chOff x="1062000" y="2220840"/>
            <a:chExt cx="7697520" cy="3534120"/>
          </a:xfrm>
        </p:grpSpPr>
        <p:sp>
          <p:nvSpPr>
            <p:cNvPr id="67" name=""/>
            <p:cNvSpPr/>
            <p:nvPr/>
          </p:nvSpPr>
          <p:spPr>
            <a:xfrm>
              <a:off x="1062000" y="2220840"/>
              <a:ext cx="7658640" cy="35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Na economia: o papel central da inovação, de Pesquisa &amp; Desenvolvi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049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No trabalho: adaptação e efeitos de retro-aliment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Nas organizações: capacidade de decisão estratégica flexível e integração dos vários compone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00880" y="26845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00880" y="31417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00880" y="3608280"/>
              <a:ext cx="7658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00880" y="437040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00880" y="481824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1440" y="107460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5f5f5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A Sociedade da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03280"/>
            <a:ext cx="94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Elemento decisivo: as Tecnologias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062000" y="2678040"/>
            <a:ext cx="7697520" cy="2994120"/>
            <a:chOff x="1062000" y="2678040"/>
            <a:chExt cx="7697520" cy="2994120"/>
          </a:xfrm>
        </p:grpSpPr>
        <p:sp>
          <p:nvSpPr>
            <p:cNvPr id="78" name=""/>
            <p:cNvSpPr/>
            <p:nvPr/>
          </p:nvSpPr>
          <p:spPr>
            <a:xfrm>
              <a:off x="1062000" y="2678040"/>
              <a:ext cx="7658640" cy="28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Ampliam a capacidade de inov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049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Permitem a correção de erros e geração de efeitos de retro-alimentação durante a execu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7a"/>
                  </a:solidFill>
                  <a:latin typeface="Verdana"/>
                </a:rPr>
                <a:t>Suporte para flexibilidade e adaptabilidade no processo de gerenci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00880" y="31417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00880" y="359892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00880" y="4065480"/>
              <a:ext cx="7658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00880" y="482760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00880" y="5275440"/>
              <a:ext cx="7658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63680" y="1055520"/>
            <a:ext cx="781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1080" y="1574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13040" y="49435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81080" y="2335320"/>
            <a:ext cx="7526520" cy="3300840"/>
            <a:chOff x="1081080" y="2335320"/>
            <a:chExt cx="7526520" cy="3300840"/>
          </a:xfrm>
        </p:grpSpPr>
        <p:sp>
          <p:nvSpPr>
            <p:cNvPr id="89" name=""/>
            <p:cNvSpPr/>
            <p:nvPr/>
          </p:nvSpPr>
          <p:spPr>
            <a:xfrm>
              <a:off x="1081080" y="233532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12º em número de </a:t>
              </a:r>
              <a:r>
                <a:rPr b="0" i="1" lang="pt-BR" sz="2000" spc="-1" strike="noStrike">
                  <a:solidFill>
                    <a:srgbClr val="00007a"/>
                  </a:solidFill>
                  <a:latin typeface="Verdana"/>
                </a:rPr>
                <a:t>Hosts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conectado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9240" y="27986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8 milhões de usuários individuai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9240" y="325584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udiência inercial de 36 milhões de pessoas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19240" y="3722400"/>
              <a:ext cx="748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Mercado inercial de 10 bilhões de dólares em 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  </a:t>
              </a:r>
              <a:r>
                <a:rPr b="0" i="1" lang="pt-BR" sz="2000" spc="-1" strike="noStrike">
                  <a:solidFill>
                    <a:srgbClr val="00007a"/>
                  </a:solidFill>
                  <a:latin typeface="Verdana"/>
                </a:rPr>
                <a:t>e-business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em 2003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19240" y="4484520"/>
              <a:ext cx="748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Terceira maior operação de Internet Banking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19240" y="4932360"/>
              <a:ext cx="748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9900"/>
                </a:buClr>
                <a:buSzPct val="80000"/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</a:t>
              </a: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Algumas Aplicações Governamentais de destaque</a:t>
              </a:r>
              <a:br>
                <a:rPr sz="2000"/>
              </a:br>
              <a:r>
                <a:rPr b="0" lang="pt-BR" sz="2000" spc="-1" strike="noStrike">
                  <a:solidFill>
                    <a:srgbClr val="00007a"/>
                  </a:solidFill>
                  <a:latin typeface="Verdana"/>
                </a:rPr>
                <a:t>   mundial (IR, Eleições Eletrônica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067680" y="6070680"/>
            <a:ext cx="482760" cy="317520"/>
          </a:xfrm>
          <a:custGeom>
            <a:avLst/>
            <a:gdLst>
              <a:gd name="textAreaLeft" fmla="*/ 20520 w 482760"/>
              <a:gd name="textAreaRight" fmla="*/ 462240 w 48276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32828" h="21600">
                <a:moveTo>
                  <a:pt x="0" y="0"/>
                </a:moveTo>
                <a:lnTo>
                  <a:pt x="32828" y="0"/>
                </a:lnTo>
                <a:lnTo>
                  <a:pt x="32828" y="21600"/>
                </a:lnTo>
                <a:lnTo>
                  <a:pt x="0" y="21600"/>
                </a:lnTo>
                <a:close/>
              </a:path>
              <a:path fill="lightenLess" w="32828" h="21600">
                <a:moveTo>
                  <a:pt x="0" y="0"/>
                </a:moveTo>
                <a:lnTo>
                  <a:pt x="32828" y="0"/>
                </a:lnTo>
                <a:lnTo>
                  <a:pt x="31428" y="1400"/>
                </a:lnTo>
                <a:lnTo>
                  <a:pt x="1400" y="1400"/>
                </a:lnTo>
                <a:close/>
              </a:path>
              <a:path fill="darken" w="32828" h="21600">
                <a:moveTo>
                  <a:pt x="32828" y="0"/>
                </a:moveTo>
                <a:lnTo>
                  <a:pt x="32828" y="21600"/>
                </a:lnTo>
                <a:lnTo>
                  <a:pt x="31428" y="20200"/>
                </a:lnTo>
                <a:lnTo>
                  <a:pt x="31428" y="1400"/>
                </a:lnTo>
                <a:close/>
              </a:path>
              <a:path fill="darkenLess" w="32828" h="21600">
                <a:moveTo>
                  <a:pt x="32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28" y="20200"/>
                </a:lnTo>
                <a:close/>
              </a:path>
              <a:path fill="lighten" w="32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28" h="21600">
                <a:moveTo>
                  <a:pt x="9408" y="3794"/>
                </a:moveTo>
                <a:lnTo>
                  <a:pt x="23421" y="10800"/>
                </a:lnTo>
                <a:lnTo>
                  <a:pt x="9408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5400" y="944640"/>
            <a:ext cx="54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52360" y="1622520"/>
            <a:ext cx="839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Tendências inerciais sobre Usuários da           Internet na América Latina -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06520" y="5958000"/>
            <a:ext cx="5289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* No caso do Chile, classe D inclui classe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   </a:t>
            </a: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Fonte: Booz-Allen &amp; Hamilton</a:t>
            </a:r>
            <a:br>
              <a:rPr sz="1200"/>
            </a:br>
            <a:r>
              <a:rPr b="1" lang="pt-BR" sz="1200" spc="-1" strike="noStrike">
                <a:solidFill>
                  <a:srgbClr val="00007a"/>
                </a:solidFill>
                <a:latin typeface="Verdana"/>
              </a:rPr>
              <a:t>   Fonte de estrutura social: IB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14480" y="2635200"/>
            <a:ext cx="9791640" cy="3238200"/>
            <a:chOff x="114480" y="2635200"/>
            <a:chExt cx="9791640" cy="3238200"/>
          </a:xfrm>
        </p:grpSpPr>
        <p:grpSp>
          <p:nvGrpSpPr>
            <p:cNvPr id="100" name=""/>
            <p:cNvGrpSpPr/>
            <p:nvPr/>
          </p:nvGrpSpPr>
          <p:grpSpPr>
            <a:xfrm>
              <a:off x="114480" y="2635200"/>
              <a:ext cx="8164440" cy="3216240"/>
              <a:chOff x="114480" y="2635200"/>
              <a:chExt cx="8164440" cy="321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114480" y="2651040"/>
                <a:ext cx="8140680" cy="3200400"/>
              </a:xfrm>
              <a:prstGeom prst="rect">
                <a:avLst/>
              </a:pr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"/>
              <p:cNvGrpSpPr/>
              <p:nvPr/>
            </p:nvGrpSpPr>
            <p:grpSpPr>
              <a:xfrm>
                <a:off x="6711840" y="2635200"/>
                <a:ext cx="1567080" cy="384120"/>
                <a:chOff x="6711840" y="2635200"/>
                <a:chExt cx="1567080" cy="3841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6730920" y="2651040"/>
                  <a:ext cx="1524240" cy="368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711840" y="2635200"/>
                  <a:ext cx="156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Chil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5086440" y="2635200"/>
                <a:ext cx="1566720" cy="384120"/>
                <a:chOff x="5086440" y="2635200"/>
                <a:chExt cx="1566720" cy="3841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5105520" y="2651040"/>
                  <a:ext cx="1523880" cy="368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086440" y="2635200"/>
                  <a:ext cx="156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Argenti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3460680" y="2635200"/>
                <a:ext cx="1567080" cy="384120"/>
                <a:chOff x="3460680" y="2635200"/>
                <a:chExt cx="1567080" cy="3841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3479760" y="2651040"/>
                  <a:ext cx="1523880" cy="368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460680" y="2635200"/>
                  <a:ext cx="156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Méxic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1835280" y="2635200"/>
                <a:ext cx="1566720" cy="384120"/>
                <a:chOff x="1835280" y="2635200"/>
                <a:chExt cx="1566720" cy="38412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1854360" y="2651040"/>
                  <a:ext cx="1523880" cy="3682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35280" y="2635200"/>
                  <a:ext cx="1566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Brasi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>
                <a:off x="1851120" y="3146400"/>
                <a:ext cx="6404040" cy="36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089080" y="3156120"/>
                <a:ext cx="5796000" cy="368280"/>
                <a:chOff x="2089080" y="3156120"/>
                <a:chExt cx="5796000" cy="368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851520" y="31561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0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365800" y="31561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0,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27440" y="31561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1,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089080" y="315612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4,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1851120" y="3692520"/>
                <a:ext cx="6404040" cy="36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2089080" y="3701880"/>
                <a:ext cx="5796000" cy="368280"/>
                <a:chOff x="2089080" y="3701880"/>
                <a:chExt cx="5796000" cy="368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851520" y="370188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1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365800" y="370188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4,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727440" y="370188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12,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089080" y="3701880"/>
                  <a:ext cx="1033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3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7a"/>
                      </a:solidFill>
                      <a:latin typeface="Verdana"/>
                    </a:rPr>
                    <a:t>31,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6" name="i78a3" descr=""/>
              <p:cNvPicPr/>
              <p:nvPr/>
            </p:nvPicPr>
            <p:blipFill>
              <a:blip r:embed="rId1"/>
              <a:stretch/>
            </p:blipFill>
            <p:spPr>
              <a:xfrm>
                <a:off x="641520" y="3622680"/>
                <a:ext cx="742680" cy="57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i78a4" descr=""/>
              <p:cNvPicPr/>
              <p:nvPr/>
            </p:nvPicPr>
            <p:blipFill>
              <a:blip r:embed="rId2"/>
              <a:stretch/>
            </p:blipFill>
            <p:spPr>
              <a:xfrm>
                <a:off x="825480" y="3065400"/>
                <a:ext cx="361800" cy="542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8296200" y="3102120"/>
              <a:ext cx="1609920" cy="1054080"/>
              <a:chOff x="8296200" y="3102120"/>
              <a:chExt cx="1609920" cy="1054080"/>
            </a:xfrm>
          </p:grpSpPr>
          <p:pic>
            <p:nvPicPr>
              <p:cNvPr id="129" name="i78c" descr=""/>
              <p:cNvPicPr/>
              <p:nvPr/>
            </p:nvPicPr>
            <p:blipFill>
              <a:blip r:embed="rId3"/>
              <a:stretch/>
            </p:blipFill>
            <p:spPr>
              <a:xfrm>
                <a:off x="8296200" y="3102120"/>
                <a:ext cx="289080" cy="105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8504280" y="3244680"/>
                <a:ext cx="14018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7a"/>
                    </a:solidFill>
                    <a:latin typeface="Verdana"/>
                  </a:rPr>
                  <a:t> </a:t>
                </a:r>
                <a:r>
                  <a:rPr b="1" lang="pt-BR" sz="1400" spc="-1" strike="noStrike">
                    <a:solidFill>
                      <a:srgbClr val="00007a"/>
                    </a:solidFill>
                    <a:latin typeface="Verdana"/>
                  </a:rPr>
                  <a:t>De  50 a           60 milhões de pesso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95120" y="4232160"/>
              <a:ext cx="8060040" cy="1641240"/>
              <a:chOff x="195120" y="4232160"/>
              <a:chExt cx="8060040" cy="1641240"/>
            </a:xfrm>
          </p:grpSpPr>
          <p:sp>
            <p:nvSpPr>
              <p:cNvPr id="132" name=""/>
              <p:cNvSpPr/>
              <p:nvPr/>
            </p:nvSpPr>
            <p:spPr>
              <a:xfrm>
                <a:off x="1851120" y="4950000"/>
                <a:ext cx="6404040" cy="368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95120" y="4232160"/>
                <a:ext cx="8060040" cy="1641240"/>
                <a:chOff x="195120" y="4232160"/>
                <a:chExt cx="8060040" cy="1641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851120" y="4327560"/>
                  <a:ext cx="6404040" cy="368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" name=""/>
                <p:cNvGrpSpPr/>
                <p:nvPr/>
              </p:nvGrpSpPr>
              <p:grpSpPr>
                <a:xfrm>
                  <a:off x="2089080" y="4336920"/>
                  <a:ext cx="5796000" cy="368280"/>
                  <a:chOff x="2089080" y="4336920"/>
                  <a:chExt cx="5796000" cy="36828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6851520" y="43369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6,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365800" y="43369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11,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727440" y="43369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18,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089080" y="43369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44,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2089080" y="4946760"/>
                  <a:ext cx="5796000" cy="368280"/>
                  <a:chOff x="2089080" y="4946760"/>
                  <a:chExt cx="5796000" cy="3682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>
                    <a:off x="6851520" y="494676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6,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365800" y="494676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20,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3727440" y="494676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63,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089080" y="494676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87,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1200" y="5495760"/>
                  <a:ext cx="7473960" cy="377640"/>
                  <a:chOff x="781200" y="5495760"/>
                  <a:chExt cx="7473960" cy="3776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851120" y="5495760"/>
                    <a:ext cx="6404040" cy="3682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851520" y="55051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14,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149800" y="55051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3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448080" y="55051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97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809720" y="5505120"/>
                    <a:ext cx="1033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16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781200" y="5505120"/>
                    <a:ext cx="10332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37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800" spc="-1" strike="noStrike">
                        <a:solidFill>
                          <a:srgbClr val="00007a"/>
                        </a:solidFill>
                        <a:latin typeface="Verdana"/>
                      </a:rPr>
                      <a:t>total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52" name="i78a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95120" y="4867200"/>
                  <a:ext cx="159084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i78a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22280" y="4232160"/>
                  <a:ext cx="1162080" cy="571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54" name="">
            <a:hlinkClick r:id="rId6" action="ppaction://hlinksldjump"/>
          </p:cNvPr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8840" y="979560"/>
            <a:ext cx="60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a"/>
                </a:solidFill>
                <a:latin typeface="Verdana"/>
              </a:rPr>
              <a:t>2. Oportunidades: A Internet n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76480" y="1623960"/>
            <a:ext cx="79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467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Comércio Eletrônico na América Latina e  </a:t>
            </a:r>
            <a:br>
              <a:rPr sz="2400"/>
            </a:br>
            <a:r>
              <a:rPr b="1" lang="pt-BR" sz="2400" spc="-1" strike="noStrike">
                <a:solidFill>
                  <a:srgbClr val="00007a"/>
                </a:solidFill>
                <a:latin typeface="Verdana"/>
              </a:rPr>
              <a:t>    no Ca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2400" y="6167520"/>
            <a:ext cx="32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7a"/>
                </a:solidFill>
                <a:latin typeface="Verdana"/>
              </a:rPr>
              <a:t>Fonte: Booz-Allen &amp; Hami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07520" y="3699000"/>
            <a:ext cx="159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467cc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467cc"/>
                </a:solidFill>
                <a:latin typeface="Verdana"/>
              </a:rPr>
              <a:t>50%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6480" y="430848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c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467cc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467cc"/>
                </a:solidFill>
                <a:latin typeface="Verdana"/>
              </a:rPr>
              <a:t>60% Brasil, 30% 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10400" y="2813040"/>
            <a:ext cx="4312440" cy="2495520"/>
            <a:chOff x="1310400" y="2813040"/>
            <a:chExt cx="4312440" cy="2495520"/>
          </a:xfrm>
        </p:grpSpPr>
        <p:sp>
          <p:nvSpPr>
            <p:cNvPr id="161" name=""/>
            <p:cNvSpPr/>
            <p:nvPr/>
          </p:nvSpPr>
          <p:spPr>
            <a:xfrm>
              <a:off x="2368440" y="3670200"/>
              <a:ext cx="1600200" cy="495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0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44960" y="3670200"/>
              <a:ext cx="156204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1.5 - 3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8440" y="4241880"/>
              <a:ext cx="1600200" cy="495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1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44960" y="4241880"/>
              <a:ext cx="156204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7.0 - 13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68440" y="4813200"/>
              <a:ext cx="1600200" cy="495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1.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4960" y="4813200"/>
              <a:ext cx="1562040" cy="49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7a"/>
                  </a:solidFill>
                  <a:latin typeface="Verdana"/>
                </a:rPr>
                <a:t>8.5 - 16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310400" y="2813040"/>
              <a:ext cx="4312440" cy="2453040"/>
              <a:chOff x="1310400" y="2813040"/>
              <a:chExt cx="4312440" cy="245304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1339920" y="2813040"/>
                <a:ext cx="4282920" cy="1905120"/>
                <a:chOff x="1339920" y="2813040"/>
                <a:chExt cx="4282920" cy="1905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339920" y="3670200"/>
                  <a:ext cx="857160" cy="476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7a"/>
                      </a:solidFill>
                      <a:latin typeface="Verdana"/>
                    </a:rPr>
                    <a:t>B2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339920" y="4241880"/>
                  <a:ext cx="857160" cy="476280"/>
                </a:xfrm>
                <a:prstGeom prst="rect">
                  <a:avLst/>
                </a:prstGeom>
                <a:solidFill>
                  <a:srgbClr val="ccecff"/>
                </a:solidFill>
                <a:ln w="9360">
                  <a:solidFill>
                    <a:srgbClr val="cce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7a"/>
                      </a:solidFill>
                      <a:latin typeface="Verdana"/>
                    </a:rPr>
                    <a:t>B2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371680" y="3232080"/>
                  <a:ext cx="3235320" cy="324000"/>
                </a:xfrm>
                <a:prstGeom prst="rect">
                  <a:avLst/>
                </a:prstGeom>
                <a:solidFill>
                  <a:srgbClr val="85a4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66"/>
                      </a:solidFill>
                      <a:latin typeface="Verdana"/>
                    </a:rPr>
                    <a:t>(US$ Bilhões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71680" y="2813040"/>
                  <a:ext cx="1559160" cy="324000"/>
                </a:xfrm>
                <a:prstGeom prst="rect">
                  <a:avLst/>
                </a:prstGeom>
                <a:solidFill>
                  <a:srgbClr val="85a4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66"/>
                      </a:solidFill>
                      <a:latin typeface="Verdana"/>
                    </a:rPr>
                    <a:t>Atu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025880" y="2813040"/>
                  <a:ext cx="1596960" cy="324000"/>
                </a:xfrm>
                <a:prstGeom prst="rect">
                  <a:avLst/>
                </a:prstGeom>
                <a:solidFill>
                  <a:srgbClr val="85a4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2000" spc="-1" strike="noStrike">
                      <a:solidFill>
                        <a:srgbClr val="000066"/>
                      </a:solidFill>
                      <a:latin typeface="Verdana"/>
                    </a:rPr>
                    <a:t>20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1310400" y="4867200"/>
                <a:ext cx="78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66"/>
                    </a:solidFill>
                    <a:latin typeface="Verdana"/>
                  </a:rPr>
                  <a:t>tot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9144000" y="6095880"/>
            <a:ext cx="495360" cy="324000"/>
          </a:xfrm>
          <a:custGeom>
            <a:avLst/>
            <a:gdLst>
              <a:gd name="textAreaLeft" fmla="*/ 20880 w 495360"/>
              <a:gd name="textAreaRight" fmla="*/ 474480 w 49536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33011" h="21600">
                <a:moveTo>
                  <a:pt x="0" y="0"/>
                </a:moveTo>
                <a:lnTo>
                  <a:pt x="33011" y="0"/>
                </a:lnTo>
                <a:lnTo>
                  <a:pt x="33011" y="21600"/>
                </a:lnTo>
                <a:lnTo>
                  <a:pt x="0" y="21600"/>
                </a:lnTo>
                <a:close/>
              </a:path>
              <a:path fill="lightenLess" w="33011" h="21600">
                <a:moveTo>
                  <a:pt x="0" y="0"/>
                </a:moveTo>
                <a:lnTo>
                  <a:pt x="33011" y="0"/>
                </a:lnTo>
                <a:lnTo>
                  <a:pt x="31611" y="1400"/>
                </a:lnTo>
                <a:lnTo>
                  <a:pt x="1400" y="1400"/>
                </a:lnTo>
                <a:close/>
              </a:path>
              <a:path fill="darken" w="33011" h="21600">
                <a:moveTo>
                  <a:pt x="33011" y="0"/>
                </a:moveTo>
                <a:lnTo>
                  <a:pt x="33011" y="21600"/>
                </a:lnTo>
                <a:lnTo>
                  <a:pt x="31611" y="20200"/>
                </a:lnTo>
                <a:lnTo>
                  <a:pt x="31611" y="1400"/>
                </a:lnTo>
                <a:close/>
              </a:path>
              <a:path fill="darkenLess" w="33011" h="21600">
                <a:moveTo>
                  <a:pt x="33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11" y="20200"/>
                </a:lnTo>
                <a:close/>
              </a:path>
              <a:path fill="lighten" w="33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011" h="21600">
                <a:moveTo>
                  <a:pt x="13007" y="10800"/>
                </a:moveTo>
                <a:lnTo>
                  <a:pt x="23512" y="3794"/>
                </a:lnTo>
                <a:lnTo>
                  <a:pt x="23512" y="17806"/>
                </a:lnTo>
                <a:close/>
              </a:path>
              <a:path fill="darken" w="33011" h="21600">
                <a:moveTo>
                  <a:pt x="9499" y="3794"/>
                </a:moveTo>
                <a:lnTo>
                  <a:pt x="11162" y="3794"/>
                </a:lnTo>
                <a:lnTo>
                  <a:pt x="11162" y="17806"/>
                </a:lnTo>
                <a:lnTo>
                  <a:pt x="9499" y="178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3T22:12:38Z</dcterms:created>
  <dc:creator>SocInfo</dc:creator>
  <dc:description/>
  <dc:language>en-US</dc:language>
  <cp:lastModifiedBy>Laura</cp:lastModifiedBy>
  <cp:lastPrinted>2001-02-08T19:35:01Z</cp:lastPrinted>
  <dcterms:modified xsi:type="dcterms:W3CDTF">2001-08-22T19:21:25Z</dcterms:modified>
  <cp:revision>554</cp:revision>
  <dc:subject/>
  <dc:title>Palestra Consulta Pública</dc:title>
</cp:coreProperties>
</file>