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FA7-594A-4D46-BED3-69730197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823-F88B-4F26-ABFC-C8DD48F0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1F38-AF98-4E83-B036-C5E6989E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6ADF-C232-4443-AC79-BBFAA554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23D8-E00D-47D5-827A-D209FAF7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51A0-0C81-429B-A6C4-A4FB3B9F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30F0-6921-4E84-BD48-C6AD97AA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B146-030E-417D-8848-7195BC8D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B7F8-8CDD-4A89-98C2-E8B910A3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162C-FFE4-47D5-9FA4-E60F977D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4D04-DFE6-45F5-8B94-737931CD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EA9-8899-469E-9E06-A3D7D902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AE46-B4F1-45A8-8795-2F52F62F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A51A-2FBA-4E74-BB94-F8564B5F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3FE2-73F4-4080-A3D2-6E43CFA9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760B-41B9-4298-A18A-BAA2DD22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C7A8-0ECD-4EA3-B57C-B1F53946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FDB-0F7C-4357-AF67-3DABDC36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170-0E0E-480C-AEBF-61973D5E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4B0-A1B4-4974-8281-025FA4EC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E08-7D01-4B85-8209-01BACD7F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F6E-C508-4A4E-BFB4-9CDD7AF0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26B-99F4-4BE1-9EAA-3A1BB43C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212-C017-4C0A-B88F-EBA441AA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2DB2-888A-46BB-A20A-FD65040F75D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B3C3-CCAA-4457-B4C7-4EFB29F36A3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232560"/>
            <a:ext cx="863748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equação da EAD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audio de Moura Castro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equação na prática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UFSC / Eng. Produção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 Teleconferência, totalmente à distância, clientela empresarial, pequena escala, custos fixos modestos, variáveis altos, cursos de duração média, alta fidelidade (empresa pag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equação na prática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nstituto Monitor e IU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 ensino por correspondência, custo fixo razoável, custo para o aluno baixíssimo, alta escala, capacidade de leitura média, baixa fidelidade (alta deserção)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equação na prática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atemática por rádio interativo (Bolivia e Venezuela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 totalmente por rádio, custo fixo alto, variável baixíssimo, longo, baixo nível de escolarização dos alu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equação na prática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U-Next: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otalmente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web-based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, custo fixo altíssimo, custo variável potencialmente baixo, clientela educada, duração curta de cada módu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equação na prática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aculdade Pitágoras: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otalmente presencial mas utilizando web e materiais de ensino à distância, custo fixo altíssimo, longa duração, custo variável médio, expectativa de alta escala, nível dos alunos relativamente alto, potencial de virar semi-presencial e totalmente à distâ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ual a tecnologia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sino por correspondênci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interativo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levisão/vídeo? Que linguagem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leconferênci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ernet? O que será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 que é “à distância”?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talmente à distânci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mi-presencial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encial gerenciado por tecnologi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encial com materiais de ensino à distânci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uem é o client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ual a sua capacidade para operar com materiais escrito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ual a sua fidelidade e persistênci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ual a duração do programa?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urta duração: extensão, temas técn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raduaçã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einamento de executivos, cur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ós-graduação stricto sensu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ual a escala de operaçõe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ixa escala: economizar em custos fixos e gastar em custos variáv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ta escala: investir pesadamente em custos fixos e economizar nos variáv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uanto custa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uem pode pagar? Quanto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uem vai financiar os que não podem pagar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equação completa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ual tecnologi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ue distânci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ra quem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ue duração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ue escala de operaçõe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uanto cust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uem pag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equação na prática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elecurso 200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 TV / vídeo, presencial gerenciado por tecnologia, altissimo custo fixo (financiado pela FIESP), enorme clientela com baixa escolaridade, o custo/aluno da TV é irrisório, custo total variável modesto, longa duração, diploma é fonte de motivaçã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19:42:11Z</dcterms:created>
  <dc:creator>Claudio M. Castro</dc:creator>
  <dc:description/>
  <dc:language>en-US</dc:language>
  <cp:lastModifiedBy>Laura</cp:lastModifiedBy>
  <dcterms:modified xsi:type="dcterms:W3CDTF">2001-08-22T19:23:12Z</dcterms:modified>
  <cp:revision>12</cp:revision>
  <dc:subject/>
  <dc:title>Which statement describes Brazil?</dc:title>
</cp:coreProperties>
</file>