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B637-1BE8-4BFD-B8EC-5E05D521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8378-67B8-4417-8B9D-7B6C0F9F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72CE-097B-4956-A241-A587F8AE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F886-37D0-4640-BA0A-60EBE263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9C21-7B54-48F5-8323-72198496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80B-A0CC-4670-B62D-7A3DCDF7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D3C-CDED-49FD-983E-D2BCB225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3634-EB1A-4BCC-9EB3-F8213BCC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27D-A22B-4DBA-A71F-F6F9C051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3F55-A6C1-4234-955E-344AAAE9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5E81-B8A2-4845-8610-633DC0E9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C45-B778-4EAF-9A01-17D4C9F1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3FE8-2F4E-4C47-A3DA-B8ED80E99C5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370160" y="95400"/>
            <a:ext cx="7392960" cy="6762600"/>
            <a:chOff x="1370160" y="95400"/>
            <a:chExt cx="7392960" cy="6762600"/>
          </a:xfrm>
        </p:grpSpPr>
        <p:graphicFrame>
          <p:nvGraphicFramePr>
            <p:cNvPr id="42" name=""/>
            <p:cNvGraphicFramePr/>
            <p:nvPr/>
          </p:nvGraphicFramePr>
          <p:xfrm>
            <a:off x="1370160" y="95400"/>
            <a:ext cx="7392960" cy="3943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0160" y="95400"/>
                      <a:ext cx="7392960" cy="394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" name=""/>
            <p:cNvGraphicFramePr/>
            <p:nvPr/>
          </p:nvGraphicFramePr>
          <p:xfrm>
            <a:off x="1389240" y="3981600"/>
            <a:ext cx="7373880" cy="287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89240" y="3981600"/>
                      <a:ext cx="7373880" cy="28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" name=""/>
          <p:cNvSpPr/>
          <p:nvPr/>
        </p:nvSpPr>
        <p:spPr>
          <a:xfrm>
            <a:off x="7696080" y="0"/>
            <a:ext cx="12193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52280" y="117360"/>
          <a:ext cx="20574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7360"/>
                    <a:ext cx="20574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3045600" y="700200"/>
            <a:ext cx="29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Lucida Sans Unicode"/>
              </a:rPr>
              <a:t>CENÁR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322360"/>
            <a:ext cx="8686440" cy="1142640"/>
            <a:chOff x="457200" y="2322360"/>
            <a:chExt cx="8686440" cy="1142640"/>
          </a:xfrm>
        </p:grpSpPr>
        <p:sp>
          <p:nvSpPr>
            <p:cNvPr id="51" name=""/>
            <p:cNvSpPr/>
            <p:nvPr/>
          </p:nvSpPr>
          <p:spPr>
            <a:xfrm>
              <a:off x="457200" y="2322360"/>
              <a:ext cx="868644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" y="2322360"/>
              <a:ext cx="868644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" name=""/>
          <p:cNvGraphicFramePr/>
          <p:nvPr/>
        </p:nvGraphicFramePr>
        <p:xfrm>
          <a:off x="533520" y="1981080"/>
          <a:ext cx="552924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981080"/>
                    <a:ext cx="552924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019920" y="1981080"/>
            <a:ext cx="26668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124080"/>
            <a:ext cx="83059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8098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Lucida Sans Unicode"/>
                <a:ea typeface="Times New Roman"/>
              </a:rPr>
              <a:t>Em convênio com LASPAU, entidade  afiliada a Harvard, oferece cursos d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Lucida Sans Unicode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66"/>
                </a:solidFill>
                <a:latin typeface="Lucida Sans Unicode"/>
                <a:ea typeface="Times New Roman"/>
              </a:rPr>
              <a:t>Massachusetts Institute of Technology 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Lucida Sans Unicode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66"/>
                </a:solidFill>
                <a:latin typeface="Lucida Sans Unicode"/>
                <a:ea typeface="Times New Roman"/>
              </a:rPr>
              <a:t>UCBerke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Lucida Sans Unicode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66"/>
                </a:solidFill>
                <a:latin typeface="Lucida Sans Unicode"/>
                <a:ea typeface="Times New Roman"/>
              </a:rPr>
              <a:t>Rochester Institute of Technology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53341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914400" y="609480"/>
            <a:ext cx="7315200" cy="5934240"/>
            <a:chOff x="914400" y="609480"/>
            <a:chExt cx="7315200" cy="5934240"/>
          </a:xfrm>
        </p:grpSpPr>
        <p:graphicFrame>
          <p:nvGraphicFramePr>
            <p:cNvPr id="60" name=""/>
            <p:cNvGraphicFramePr/>
            <p:nvPr/>
          </p:nvGraphicFramePr>
          <p:xfrm>
            <a:off x="954000" y="3733920"/>
            <a:ext cx="7275600" cy="280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54000" y="3733920"/>
                      <a:ext cx="7275600" cy="280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914400" y="609480"/>
            <a:ext cx="7307280" cy="3114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14400" y="609480"/>
                      <a:ext cx="7307280" cy="311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4" name=""/>
          <p:cNvSpPr/>
          <p:nvPr/>
        </p:nvSpPr>
        <p:spPr>
          <a:xfrm>
            <a:off x="533520" y="457200"/>
            <a:ext cx="457200" cy="609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52280" y="117360"/>
          <a:ext cx="20574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7360"/>
                    <a:ext cx="20574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045600" y="700200"/>
            <a:ext cx="29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Lucida Sans Unicode"/>
              </a:rPr>
              <a:t>CENÁR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2322360"/>
            <a:ext cx="8686440" cy="1142640"/>
            <a:chOff x="457200" y="2322360"/>
            <a:chExt cx="8686440" cy="1142640"/>
          </a:xfrm>
        </p:grpSpPr>
        <p:sp>
          <p:nvSpPr>
            <p:cNvPr id="69" name=""/>
            <p:cNvSpPr/>
            <p:nvPr/>
          </p:nvSpPr>
          <p:spPr>
            <a:xfrm>
              <a:off x="457200" y="2322360"/>
              <a:ext cx="868644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2322360"/>
              <a:ext cx="868644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57200" y="2133720"/>
            <a:ext cx="8305920" cy="4495680"/>
            <a:chOff x="457200" y="2133720"/>
            <a:chExt cx="8305920" cy="4495680"/>
          </a:xfrm>
        </p:grpSpPr>
        <p:grpSp>
          <p:nvGrpSpPr>
            <p:cNvPr id="72" name=""/>
            <p:cNvGrpSpPr/>
            <p:nvPr/>
          </p:nvGrpSpPr>
          <p:grpSpPr>
            <a:xfrm>
              <a:off x="457200" y="2133720"/>
              <a:ext cx="8305920" cy="4495680"/>
              <a:chOff x="457200" y="2133720"/>
              <a:chExt cx="8305920" cy="4495680"/>
            </a:xfrm>
          </p:grpSpPr>
          <p:sp>
            <p:nvSpPr>
              <p:cNvPr id="73" name=""/>
              <p:cNvSpPr/>
              <p:nvPr/>
            </p:nvSpPr>
            <p:spPr>
              <a:xfrm>
                <a:off x="457200" y="3124080"/>
                <a:ext cx="830592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4" name=""/>
              <p:cNvGraphicFramePr/>
              <p:nvPr/>
            </p:nvGraphicFramePr>
            <p:xfrm>
              <a:off x="457200" y="2133720"/>
              <a:ext cx="8296200" cy="10936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57200" y="2133720"/>
                        <a:ext cx="8296200" cy="1093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6" name=""/>
              <p:cNvGraphicFramePr/>
              <p:nvPr/>
            </p:nvGraphicFramePr>
            <p:xfrm>
              <a:off x="457200" y="3267000"/>
              <a:ext cx="4524480" cy="33624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57200" y="3267000"/>
                        <a:ext cx="4524480" cy="3362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8" name=""/>
              <p:cNvGraphicFramePr/>
              <p:nvPr/>
            </p:nvGraphicFramePr>
            <p:xfrm>
              <a:off x="3809880" y="3124080"/>
              <a:ext cx="1400400" cy="3429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809880" y="3124080"/>
                        <a:ext cx="1400400" cy="3429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0" name=""/>
              <p:cNvGraphicFramePr/>
              <p:nvPr/>
            </p:nvGraphicFramePr>
            <p:xfrm>
              <a:off x="4876920" y="3200400"/>
              <a:ext cx="1400040" cy="34290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876920" y="3200400"/>
                        <a:ext cx="1400040" cy="3429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2" name=""/>
              <p:cNvGraphicFramePr/>
              <p:nvPr/>
            </p:nvGraphicFramePr>
            <p:xfrm>
              <a:off x="6248520" y="3200400"/>
              <a:ext cx="1400040" cy="34290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248520" y="3200400"/>
                        <a:ext cx="1400040" cy="3429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4" name=""/>
              <p:cNvGraphicFramePr/>
              <p:nvPr/>
            </p:nvGraphicFramePr>
            <p:xfrm>
              <a:off x="7362720" y="3200400"/>
              <a:ext cx="1400400" cy="34290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7362720" y="3200400"/>
                        <a:ext cx="1400400" cy="3429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86" name=""/>
            <p:cNvGrpSpPr/>
            <p:nvPr/>
          </p:nvGrpSpPr>
          <p:grpSpPr>
            <a:xfrm>
              <a:off x="4565160" y="3814920"/>
              <a:ext cx="4141080" cy="2661120"/>
              <a:chOff x="4565160" y="3814920"/>
              <a:chExt cx="4141080" cy="2661120"/>
            </a:xfrm>
          </p:grpSpPr>
          <p:sp>
            <p:nvSpPr>
              <p:cNvPr id="87" name=""/>
              <p:cNvSpPr/>
              <p:nvPr/>
            </p:nvSpPr>
            <p:spPr>
              <a:xfrm>
                <a:off x="4565160" y="3814920"/>
                <a:ext cx="1442520" cy="25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Sans Unicode"/>
                    <a:ea typeface="Arial"/>
                  </a:rPr>
                  <a:t>Bolivia</a:t>
                </a:r>
                <a:br>
                  <a:rPr sz="1800"/>
                </a:br>
                <a:r>
                  <a:rPr b="1" lang="pt-BR" sz="1800" spc="-1" strike="noStrike">
                    <a:solidFill>
                      <a:srgbClr val="000000"/>
                    </a:solidFill>
                    <a:latin typeface="Lucida Sans Unicode"/>
                    <a:ea typeface="Arial"/>
                  </a:rPr>
                  <a:t>Brasil</a:t>
                </a:r>
                <a:br>
                  <a:rPr sz="1800"/>
                </a:br>
                <a:r>
                  <a:rPr b="1" lang="pt-BR" sz="1800" spc="-1" strike="noStrike">
                    <a:solidFill>
                      <a:srgbClr val="000000"/>
                    </a:solidFill>
                    <a:latin typeface="Lucida Sans Unicode"/>
                    <a:ea typeface="Arial"/>
                  </a:rPr>
                  <a:t>Colombia</a:t>
                </a:r>
                <a:br>
                  <a:rPr sz="1800"/>
                </a:br>
                <a:r>
                  <a:rPr b="1" lang="pt-BR" sz="1800" spc="-1" strike="noStrike">
                    <a:solidFill>
                      <a:srgbClr val="000000"/>
                    </a:solidFill>
                    <a:latin typeface="Lucida Sans Unicode"/>
                    <a:ea typeface="Arial"/>
                  </a:rPr>
                  <a:t>Costa Rica</a:t>
                </a:r>
                <a:br>
                  <a:rPr sz="1800"/>
                </a:br>
                <a:r>
                  <a:rPr b="1" lang="pt-BR" sz="1800" spc="-1" strike="noStrike">
                    <a:solidFill>
                      <a:srgbClr val="000000"/>
                    </a:solidFill>
                    <a:latin typeface="Lucida Sans Unicode"/>
                    <a:ea typeface="Arial"/>
                  </a:rPr>
                  <a:t>Chile</a:t>
                </a:r>
                <a:br>
                  <a:rPr sz="1800"/>
                </a:br>
                <a:r>
                  <a:rPr b="1" lang="pt-BR" sz="1800" spc="-1" strike="noStrike">
                    <a:solidFill>
                      <a:srgbClr val="000000"/>
                    </a:solidFill>
                    <a:latin typeface="Lucida Sans Unicode"/>
                    <a:ea typeface="Arial"/>
                  </a:rPr>
                  <a:t>Cuba</a:t>
                </a:r>
                <a:br>
                  <a:rPr sz="1800"/>
                </a:br>
                <a:r>
                  <a:rPr b="1" lang="pt-BR" sz="1800" spc="-1" strike="noStrike">
                    <a:solidFill>
                      <a:srgbClr val="000000"/>
                    </a:solidFill>
                    <a:latin typeface="Lucida Sans Unicode"/>
                    <a:ea typeface="Arial"/>
                  </a:rPr>
                  <a:t>Ecuador</a:t>
                </a:r>
                <a:br>
                  <a:rPr sz="1800"/>
                </a:br>
                <a:r>
                  <a:rPr b="1" lang="pt-BR" sz="1800" spc="-1" strike="noStrike">
                    <a:solidFill>
                      <a:srgbClr val="000000"/>
                    </a:solidFill>
                    <a:latin typeface="Lucida Sans Unicode"/>
                    <a:ea typeface="Arial"/>
                  </a:rPr>
                  <a:t>El Salvador</a:t>
                </a:r>
                <a:br>
                  <a:rPr sz="1800"/>
                </a:br>
                <a:r>
                  <a:rPr b="1" lang="pt-BR" sz="1800" spc="-1" strike="noStrike">
                    <a:solidFill>
                      <a:srgbClr val="000000"/>
                    </a:solidFill>
                    <a:latin typeface="Lucida Sans Unicode"/>
                    <a:ea typeface="Arial"/>
                  </a:rPr>
                  <a:t>Guatemal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78160" y="3913200"/>
                <a:ext cx="1828080" cy="25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Sans Unicode"/>
                    <a:ea typeface="Arial"/>
                  </a:rPr>
                  <a:t>Hondur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Lucida Sans Unicode"/>
                    <a:ea typeface="Arial"/>
                  </a:rPr>
                  <a:t>Mexico</a:t>
                </a:r>
                <a:br>
                  <a:rPr sz="1800"/>
                </a:br>
                <a:r>
                  <a:rPr b="1" lang="pt-BR" sz="1800" spc="-1" strike="noStrike">
                    <a:solidFill>
                      <a:srgbClr val="000000"/>
                    </a:solidFill>
                    <a:latin typeface="Lucida Sans Unicode"/>
                    <a:ea typeface="Arial"/>
                  </a:rPr>
                  <a:t>Nicaragua</a:t>
                </a:r>
                <a:br>
                  <a:rPr sz="1800"/>
                </a:br>
                <a:r>
                  <a:rPr b="1" lang="pt-BR" sz="1800" spc="-1" strike="noStrike">
                    <a:solidFill>
                      <a:srgbClr val="000000"/>
                    </a:solidFill>
                    <a:latin typeface="Lucida Sans Unicode"/>
                    <a:ea typeface="Arial"/>
                  </a:rPr>
                  <a:t>Panamá</a:t>
                </a:r>
                <a:br>
                  <a:rPr sz="1800"/>
                </a:br>
                <a:r>
                  <a:rPr b="1" lang="pt-BR" sz="1800" spc="-1" strike="noStrike">
                    <a:solidFill>
                      <a:srgbClr val="000000"/>
                    </a:solidFill>
                    <a:latin typeface="Lucida Sans Unicode"/>
                    <a:ea typeface="Arial"/>
                  </a:rPr>
                  <a:t>Paraguay</a:t>
                </a:r>
                <a:br>
                  <a:rPr sz="1800"/>
                </a:br>
                <a:r>
                  <a:rPr b="1" lang="pt-BR" sz="1800" spc="-1" strike="noStrike">
                    <a:solidFill>
                      <a:srgbClr val="000000"/>
                    </a:solidFill>
                    <a:latin typeface="Lucida Sans Unicode"/>
                    <a:ea typeface="Arial"/>
                  </a:rPr>
                  <a:t>Perú</a:t>
                </a:r>
                <a:br>
                  <a:rPr sz="1800"/>
                </a:br>
                <a:r>
                  <a:rPr b="1" lang="pt-BR" sz="1800" spc="-1" strike="noStrike">
                    <a:solidFill>
                      <a:srgbClr val="000000"/>
                    </a:solidFill>
                    <a:latin typeface="Lucida Sans Unicode"/>
                    <a:ea typeface="Arial"/>
                  </a:rPr>
                  <a:t>R. Dominicana</a:t>
                </a:r>
                <a:br>
                  <a:rPr sz="1800"/>
                </a:br>
                <a:r>
                  <a:rPr b="1" lang="pt-BR" sz="1800" spc="-1" strike="noStrike">
                    <a:solidFill>
                      <a:srgbClr val="000000"/>
                    </a:solidFill>
                    <a:latin typeface="Lucida Sans Unicode"/>
                    <a:ea typeface="Arial"/>
                  </a:rPr>
                  <a:t>Uruguay</a:t>
                </a:r>
                <a:br>
                  <a:rPr sz="1800"/>
                </a:br>
                <a:r>
                  <a:rPr b="1" lang="pt-BR" sz="1800" spc="-1" strike="noStrike">
                    <a:solidFill>
                      <a:srgbClr val="000000"/>
                    </a:solidFill>
                    <a:latin typeface="Lucida Sans Unicode"/>
                    <a:ea typeface="Arial"/>
                  </a:rPr>
                  <a:t>Venezuel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22:25:43Z</dcterms:created>
  <dc:creator>Andrea Luswarghi</dc:creator>
  <dc:description/>
  <dc:language>en-US</dc:language>
  <cp:lastModifiedBy>Andrea Luswarghi</cp:lastModifiedBy>
  <dcterms:modified xsi:type="dcterms:W3CDTF">2001-08-06T22:27:05Z</dcterms:modified>
  <cp:revision>2</cp:revision>
  <dc:subject/>
  <dc:title>Apresentação do PowerPoint</dc:title>
</cp:coreProperties>
</file>