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400-504D-47F4-B8B0-0B582BB0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EB4-3BC9-4713-AEF4-FCE1FB63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184-7E2C-4BBA-A5D9-A2E6B165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851-2429-4EAC-903D-A9EBFA52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3AD-CA10-4150-B3C1-B177B057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A39-4281-4172-B7AE-E27B77EA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09F-A661-4221-AC00-C57A8D9F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E04-DBA9-4DD1-B3EC-04447B5F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795-FC77-458C-8B5D-C30D4CB0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949-1EF9-4BD6-9454-2F2B9756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9ED-F332-4322-8C5E-1FF7AB74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3E5-95C4-475C-9B3E-37122F38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5211-CDDA-44BC-9D96-04449CB0B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17360"/>
          <a:ext cx="20574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20574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139840" y="787320"/>
            <a:ext cx="62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Lucida Sans Unicode"/>
              </a:rPr>
              <a:t>ALTA COMPETITIV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2322360"/>
            <a:ext cx="8686440" cy="1142640"/>
            <a:chOff x="457200" y="2322360"/>
            <a:chExt cx="8686440" cy="1142640"/>
          </a:xfrm>
        </p:grpSpPr>
        <p:sp>
          <p:nvSpPr>
            <p:cNvPr id="45" name=""/>
            <p:cNvSpPr/>
            <p:nvPr/>
          </p:nvSpPr>
          <p:spPr>
            <a:xfrm>
              <a:off x="457200" y="2322360"/>
              <a:ext cx="868644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200" y="2322360"/>
              <a:ext cx="868644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1917720"/>
            <a:ext cx="285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Gov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Univer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Fund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3517920"/>
            <a:ext cx="380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entra Virtual Classrooms WB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Smart Force e-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Learning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Top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ul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U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95800" y="2374920"/>
            <a:ext cx="30286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Inovação 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306200">
            <a:off x="6657840" y="2625120"/>
            <a:ext cx="2477880" cy="2036880"/>
          </a:xfrm>
          <a:custGeom>
            <a:avLst/>
            <a:gdLst>
              <a:gd name="textAreaLeft" fmla="*/ 480960 w 2477880"/>
              <a:gd name="textAreaRight" fmla="*/ 1721160 w 2477880"/>
              <a:gd name="textAreaTop" fmla="*/ 272880 h 2036880"/>
              <a:gd name="textAreaBottom" fmla="*/ 1764000 h 203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89" hR="21600" stAng="10800000" swAng="-5400000"/>
                <a:lnTo>
                  <a:pt x="10809" y="21600"/>
                </a:lnTo>
                <a:arcTo wR="8389" hR="21600" stAng="5400000" swAng="-2828174"/>
                <a:lnTo>
                  <a:pt x="21103" y="7324"/>
                </a:lnTo>
                <a:lnTo>
                  <a:pt x="17987" y="0"/>
                </a:lnTo>
                <a:lnTo>
                  <a:pt x="13877" y="7324"/>
                </a:lnTo>
                <a:lnTo>
                  <a:pt x="16280" y="7324"/>
                </a:lnTo>
                <a:arcTo wR="8389" hR="21600" stAng="2571826" swAng="2633768"/>
                <a:lnTo>
                  <a:pt x="9599" y="21374"/>
                </a:lnTo>
                <a:arcTo wR="8389" hR="21600" stAng="5594405" swAng="5205595"/>
                <a:close/>
              </a:path>
              <a:path fill="darkenLess" w="21600" h="21600">
                <a:moveTo>
                  <a:pt x="0" y="0"/>
                </a:moveTo>
                <a:arcTo wR="8389" hR="21600" stAng="10800000" swAng="-5400000"/>
                <a:lnTo>
                  <a:pt x="10809" y="21600"/>
                </a:lnTo>
                <a:arcTo wR="8389" hR="21600" stAng="5400000" swAng="194405"/>
                <a:lnTo>
                  <a:pt x="9599" y="21374"/>
                </a:lnTo>
                <a:arcTo wR="8389" hR="21600" stAng="5594405" swAng="5205595"/>
                <a:close/>
              </a:path>
            </a:pathLst>
          </a:custGeom>
          <a:solidFill>
            <a:srgbClr val="0033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527200"/>
            <a:ext cx="609480" cy="533520"/>
          </a:xfrm>
          <a:prstGeom prst="leftArrow">
            <a:avLst>
              <a:gd name="adj1" fmla="val 50000"/>
              <a:gd name="adj2" fmla="val 28559"/>
            </a:avLst>
          </a:prstGeom>
          <a:solidFill>
            <a:srgbClr val="0033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3700440"/>
            <a:ext cx="1524240" cy="1341360"/>
          </a:xfrm>
          <a:custGeom>
            <a:avLst/>
            <a:gdLst>
              <a:gd name="textAreaLeft" fmla="*/ 0 w 1524240"/>
              <a:gd name="textAreaRight" fmla="*/ 1524600 w 1524240"/>
              <a:gd name="textAreaTop" fmla="*/ 360 h 1341360"/>
              <a:gd name="textAreaBottom" fmla="*/ 134208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117360"/>
          <a:ext cx="20574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20574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062440" y="719280"/>
            <a:ext cx="70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Lucida Sans Unicode"/>
              </a:rPr>
              <a:t>AMADURECIMENTO DO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878120"/>
            <a:ext cx="457200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Lucida Sans Unicode"/>
              </a:rPr>
              <a:t>A Euforia tecnológica já passou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625840"/>
            <a:ext cx="4495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Todos têm acesso a aulas virtuais e portais com  diversos preços e serviç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Os softwares são muito parecidos, têm os mesmos  recursos, muda apenas a interface gráfica.</a:t>
            </a:r>
            <a:r>
              <a:rPr b="1" lang="en-US" sz="2000" spc="-1" strike="noStrike">
                <a:solidFill>
                  <a:srgbClr val="eaeaea"/>
                </a:solidFill>
                <a:latin typeface="Lucida Sans Unicod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4991040" y="339084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33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0520" y="5638680"/>
            <a:ext cx="8202600" cy="70380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Lucida Sans Unicode"/>
              </a:rPr>
              <a:t>Como fazer dela um instrumento para desenvol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Lucida Sans Unicode"/>
              </a:rPr>
              <a:t>uma educação de qualidade e prestígi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62584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Lucida Sans Unicode"/>
              </a:rPr>
              <a:t>Hoje a pergunta é:</a:t>
            </a:r>
            <a:r>
              <a:rPr b="1" lang="pt-BR" sz="2400" spc="-1" strike="noStrike">
                <a:solidFill>
                  <a:srgbClr val="ffff66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Lucida Sans Unicode"/>
              </a:rPr>
              <a:t>O QUE FAZER COM ESTA TECNOLOGI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4343400"/>
            <a:ext cx="533160" cy="10666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259092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1640" y="990720"/>
            <a:ext cx="18356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Tec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0120" y="1909800"/>
            <a:ext cx="13237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3680" y="1873080"/>
            <a:ext cx="143208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23760" y="347184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Lucida Sans Unicode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Lucida Sans Unicode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Lucida Sans Unicode"/>
              </a:rPr>
              <a:t>Telecomun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482840"/>
            <a:ext cx="630000" cy="336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13680" y="2798640"/>
            <a:ext cx="365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Sans Unicode"/>
              </a:rPr>
              <a:t>Neo-condutis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Sans Unicode"/>
              </a:rPr>
              <a:t>Enfoques Comput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Sans Unicode"/>
              </a:rPr>
              <a:t>Eixo na Memó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Sans Unicode"/>
              </a:rPr>
              <a:t>Descritivos - Quant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Sans Unicode"/>
              </a:rPr>
              <a:t>Red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Sans Unicode"/>
              </a:rPr>
              <a:t>Processamento da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Sans Unicode"/>
              </a:rPr>
              <a:t>Aprendizagem por Assoc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Sans Unicode"/>
              </a:rPr>
              <a:t>Currículo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" y="5410080"/>
            <a:ext cx="782964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Educação como sinônimo de Transmissão de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Lucida Sans Unicode"/>
              </a:rPr>
              <a:t>Tradução com novos recursos de velhas metodologias pedagó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5760" y="24732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0000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3960" y="23209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117360"/>
          <a:ext cx="20574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20574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062440" y="228600"/>
            <a:ext cx="70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Lucida Sans Unicode"/>
              </a:rPr>
              <a:t>AMADURECIMENTO DO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292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2549520"/>
            <a:ext cx="609480" cy="2666880"/>
          </a:xfrm>
          <a:custGeom>
            <a:avLst/>
            <a:gdLst>
              <a:gd name="textAreaLeft" fmla="*/ 0 w 609480"/>
              <a:gd name="textAreaRight" fmla="*/ 219960 w 60948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78440" y="338760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065400"/>
            <a:ext cx="275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Sujeitos Pas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Escassa Transfe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do aprend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Rápido esqu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Pouco Reflex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30960" y="6310440"/>
            <a:ext cx="71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Não só buscar, selecionar y processar informação, seno també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conhecimentos com os quais dar significado a essa infor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371240" y="1482840"/>
            <a:ext cx="1903320" cy="345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52280" y="117360"/>
          <a:ext cx="20574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20574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" name=""/>
          <p:cNvGrpSpPr/>
          <p:nvPr/>
        </p:nvGrpSpPr>
        <p:grpSpPr>
          <a:xfrm>
            <a:off x="457200" y="2509920"/>
            <a:ext cx="8686440" cy="1142640"/>
            <a:chOff x="457200" y="2509920"/>
            <a:chExt cx="8686440" cy="1142640"/>
          </a:xfrm>
        </p:grpSpPr>
        <p:sp>
          <p:nvSpPr>
            <p:cNvPr id="84" name=""/>
            <p:cNvSpPr/>
            <p:nvPr/>
          </p:nvSpPr>
          <p:spPr>
            <a:xfrm>
              <a:off x="457200" y="2509920"/>
              <a:ext cx="868644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2509920"/>
              <a:ext cx="868644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062440" y="228600"/>
            <a:ext cx="70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Lucida Sans Unicode"/>
              </a:rPr>
              <a:t>AMADURECIMENTO DO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488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3124080"/>
            <a:ext cx="419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É necessário integrar as novas tecnologias em progr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educativos bem fundamentados para fazer uso pedagógico das mes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1960" y="990720"/>
            <a:ext cx="51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Toma de consciência progres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016000"/>
            <a:ext cx="1066680" cy="24037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20480 h 2403720"/>
              <a:gd name="textAreaBottom" fmla="*/ 1742760 h 240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971800"/>
            <a:ext cx="533160" cy="1828800"/>
          </a:xfrm>
          <a:custGeom>
            <a:avLst/>
            <a:gdLst>
              <a:gd name="textAreaLeft" fmla="*/ 0 w 533160"/>
              <a:gd name="textAreaRight" fmla="*/ 192600 w 5331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46400" y="1946160"/>
            <a:ext cx="7276320" cy="70380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As novas tecnologias não são as panacéias que resolve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todos os problemas dos processos educativos em 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4680" y="4191120"/>
            <a:ext cx="838440" cy="1676160"/>
          </a:xfrm>
          <a:custGeom>
            <a:avLst/>
            <a:gdLst>
              <a:gd name="textAreaLeft" fmla="*/ 112320 w 838440"/>
              <a:gd name="textAreaRight" fmla="*/ 726120 w 838440"/>
              <a:gd name="textAreaTop" fmla="*/ 316440 h 1676160"/>
              <a:gd name="textAreaBottom" fmla="*/ 119196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58" stAng="-5400000" swAng="5400000"/>
                <a:lnTo>
                  <a:pt x="21600" y="11283"/>
                </a:lnTo>
                <a:arcTo wR="21600" hR="8158" stAng="0" swAng="2813304"/>
                <a:lnTo>
                  <a:pt x="7200" y="21133"/>
                </a:lnTo>
                <a:lnTo>
                  <a:pt x="0" y="17878"/>
                </a:lnTo>
                <a:lnTo>
                  <a:pt x="7200" y="13688"/>
                </a:lnTo>
                <a:lnTo>
                  <a:pt x="7200" y="15848"/>
                </a:lnTo>
                <a:arcTo wR="21600" hR="8158" stAng="2813304" swAng="-2560390"/>
                <a:lnTo>
                  <a:pt x="21200" y="9720"/>
                </a:lnTo>
                <a:arcTo wR="21600" hR="8158" stAng="-252914" swAng="-5147086"/>
                <a:close/>
              </a:path>
              <a:path fill="darkenLess" w="21600" h="21600">
                <a:moveTo>
                  <a:pt x="0" y="0"/>
                </a:moveTo>
                <a:arcTo wR="21600" hR="8158" stAng="-5400000" swAng="5400000"/>
                <a:lnTo>
                  <a:pt x="21600" y="11283"/>
                </a:lnTo>
                <a:arcTo wR="21600" hR="8158" stAng="0" swAng="-252914"/>
                <a:lnTo>
                  <a:pt x="21200" y="9720"/>
                </a:lnTo>
                <a:arcTo wR="21600" hR="8158" stAng="-252914" swAng="-5147086"/>
                <a:close/>
              </a:path>
            </a:pathLst>
          </a:custGeom>
          <a:solidFill>
            <a:srgbClr val="3333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32800" y="3200400"/>
            <a:ext cx="1939320" cy="164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M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Conteú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Lucida Sans Unicode"/>
              </a:rPr>
              <a:t>Metodolog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 Unicode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75360" y="5011560"/>
            <a:ext cx="189828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Sociedade A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Aprendizag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Dive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Comple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Reflex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Crí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33412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Num ritmo acelerado, quase neurótico, no qual apenas consolidamos o aprendido e o esquecemos com fac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952880"/>
            <a:ext cx="457200" cy="1905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3760" y="542592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Lucida Sans Unicode"/>
              </a:rPr>
              <a:t>Revolu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Lucida Sans Unicode"/>
              </a:rPr>
              <a:t>Pedag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5257800"/>
            <a:ext cx="380880" cy="1295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2389800">
            <a:off x="761760" y="1752480"/>
            <a:ext cx="1143000" cy="190512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17360"/>
          <a:ext cx="20574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20574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178360" y="228600"/>
            <a:ext cx="70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Lucida Sans Unicode"/>
              </a:rPr>
              <a:t>AMADURECIMENTO DO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A diversidade de necessidades de aprendizagem, não é compatível com a idéia simplificadora de que uma única teoria o modelo poderá dar conta de e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22640" y="91440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Pedagogia da Complex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2952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71520" y="3333600"/>
            <a:ext cx="240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Necess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de Aprendiz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4416480"/>
            <a:ext cx="53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Quanto mais abertas o variáveis sejam as condições de aplicação dos conhecimentos e habilidades adquiridos, mais eficaz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Aprendizagem Constru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Lucida Sans Unicode"/>
              </a:rPr>
              <a:t>Quanto mais repetitivas sejam essas condições, mais eficaz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Aprendizagem Associativo ou Reprodu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 rot="5400000">
            <a:off x="2286000" y="1676520"/>
            <a:ext cx="457200" cy="4876560"/>
          </a:xfrm>
          <a:custGeom>
            <a:avLst/>
            <a:gdLst>
              <a:gd name="textAreaLeft" fmla="*/ 0 w 457200"/>
              <a:gd name="textAreaRight" fmla="*/ 164880 w 457200"/>
              <a:gd name="textAreaTop" fmla="*/ 127080 h 4876560"/>
              <a:gd name="textAreaBottom" fmla="*/ 4749480 h 48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7600" y="4984920"/>
            <a:ext cx="30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âmbios durado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ransferíveis a nov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ontex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3962520"/>
            <a:ext cx="381240" cy="2895480"/>
          </a:xfrm>
          <a:custGeom>
            <a:avLst/>
            <a:gdLst>
              <a:gd name="textAreaLeft" fmla="*/ 0 w 381240"/>
              <a:gd name="textAreaRight" fmla="*/ 137520 w 3812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52280" y="117360"/>
          <a:ext cx="20574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20574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219320" y="1600200"/>
            <a:ext cx="7848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Lucida Sans Unicode"/>
              </a:rPr>
              <a:t>Se a única ferramenta que se tem é 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Lucida Sans Unicode"/>
              </a:rPr>
              <a:t>martelo, tudo será tratado como um pre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99"/>
                </a:solidFill>
                <a:latin typeface="Lucida Sans Unicode"/>
              </a:rPr>
              <a:t>Apesar do martelo ser funcional, não é o melhor para apertar um parafuso, inclusive é pouco útil para fechar uma porta,</a:t>
            </a:r>
            <a:br>
              <a:rPr sz="1800"/>
            </a:br>
            <a:r>
              <a:rPr b="1" lang="pt-BR" sz="1800" spc="-1" strike="noStrike">
                <a:solidFill>
                  <a:srgbClr val="ffff99"/>
                </a:solidFill>
                <a:latin typeface="Lucida Sans Unicode"/>
              </a:rPr>
              <a:t> e inútil para dar um nó em uma grav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8080"/>
                </a:solidFill>
                <a:latin typeface="Lucida Sans Unicode"/>
              </a:rPr>
              <a:t>Mark Tw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53840" y="746280"/>
            <a:ext cx="473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0"/>
                </a:solidFill>
                <a:latin typeface="Lucida Sans Unicode"/>
              </a:rPr>
              <a:t>Daniel Luzz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97320" y="217800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Lucida Sans Unicode"/>
              </a:rPr>
              <a:t>dluzzi@cidadeinternet.com.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117360"/>
          <a:ext cx="20574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20574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5T23:32:56Z</dcterms:created>
  <dc:creator>Andrea Luswarghi</dc:creator>
  <dc:description/>
  <dc:language>en-US</dc:language>
  <cp:lastModifiedBy>Andrea Luswarghi</cp:lastModifiedBy>
  <dcterms:modified xsi:type="dcterms:W3CDTF">2001-08-06T23:20:10Z</dcterms:modified>
  <cp:revision>16</cp:revision>
  <dc:subject/>
  <dc:title>Apresentação do PowerPoint</dc:title>
</cp:coreProperties>
</file>