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B7F-CDDB-4B0E-97E7-AD17F1A1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3A3-8E59-4EF3-ABDF-2846836D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C11-91C4-4E08-B838-0E0555E7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355-DCBA-483B-BDC9-B3652897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B62-D3C6-43C6-B0C2-8076ED9B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6A2-43E3-441D-8C49-69AA27F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472-E03D-4DB7-B484-2351CFC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6F2-EC20-4DE7-B1CA-484F2042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DE8-7911-4E92-812D-B87434B8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8CD-F11F-49C6-8583-0ABC03B1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63C-8AD5-45C9-8979-E50222B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012-A03E-4856-AD9B-FFF731D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B98-F582-433C-ABDE-CE489A09F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5600" y="7002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Lucida Sans Unicode"/>
              </a:rPr>
              <a:t>CENÁ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2322360"/>
            <a:ext cx="8686440" cy="1142640"/>
            <a:chOff x="457200" y="2322360"/>
            <a:chExt cx="8686440" cy="1142640"/>
          </a:xfrm>
        </p:grpSpPr>
        <p:sp>
          <p:nvSpPr>
            <p:cNvPr id="45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182520" y="1905120"/>
          <a:ext cx="873288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520" y="1905120"/>
                    <a:ext cx="8732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391440" y="2924280"/>
          <a:ext cx="2523960" cy="38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1440" y="2924280"/>
                    <a:ext cx="252396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3494160"/>
            <a:ext cx="633888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33 pontos de videocon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11 rádios ab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Programas/cursos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Projeto AR Limpo – Banco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Formação de economistas 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Lucida Sans Unicode"/>
              </a:rPr>
              <a:t>Reciclagem de trabalhadores com MT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398600" y="76320"/>
            <a:ext cx="7288200" cy="6857640"/>
            <a:chOff x="1398600" y="76320"/>
            <a:chExt cx="7288200" cy="6857640"/>
          </a:xfrm>
        </p:grpSpPr>
        <p:graphicFrame>
          <p:nvGraphicFramePr>
            <p:cNvPr id="53" name=""/>
            <p:cNvGraphicFramePr/>
            <p:nvPr/>
          </p:nvGraphicFramePr>
          <p:xfrm>
            <a:off x="1404720" y="3888360"/>
            <a:ext cx="7275600" cy="304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4720" y="3888360"/>
                      <a:ext cx="7275600" cy="304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1398600" y="76320"/>
            <a:ext cx="7288200" cy="384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98600" y="76320"/>
                      <a:ext cx="7288200" cy="384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" name=""/>
          <p:cNvSpPr/>
          <p:nvPr/>
        </p:nvSpPr>
        <p:spPr>
          <a:xfrm>
            <a:off x="7848720" y="76320"/>
            <a:ext cx="9144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6705720"/>
            <a:ext cx="65534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5600" y="7002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Lucida Sans Unicode"/>
              </a:rPr>
              <a:t>CENÁ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" y="2322360"/>
            <a:ext cx="8686440" cy="1142640"/>
            <a:chOff x="457200" y="2322360"/>
            <a:chExt cx="8686440" cy="1142640"/>
          </a:xfrm>
        </p:grpSpPr>
        <p:sp>
          <p:nvSpPr>
            <p:cNvPr id="63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2971800"/>
            <a:ext cx="9144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2819520"/>
            <a:ext cx="8915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Lucida Sans Unicode"/>
                <a:ea typeface="Times New Roman"/>
              </a:rPr>
              <a:t>3 anos: 100.000 alu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352680"/>
            <a:ext cx="861048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Verdana"/>
              </a:rPr>
              <a:t>Programas de televisão, livros, CD-ROM, Centro Tutorial e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Verdana"/>
              </a:rPr>
              <a:t>Bolivia, Paraguay, Uruguay, Chile, Ecuador, Perú, Colombia e Venezu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Verdana"/>
              </a:rPr>
              <a:t>Convênio com Secretaría de Educación del Gobierno de Buenos Aires: descontos de 30% para 49.000 doc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876320"/>
          <a:ext cx="84582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876320"/>
                    <a:ext cx="84582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5638680"/>
            <a:ext cx="861048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b2b2b2"/>
                </a:solidFill>
                <a:latin typeface="Lucida Sans Unicode"/>
                <a:ea typeface="Times New Roman"/>
              </a:rPr>
              <a:t>PRÊM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b2b2b2"/>
                </a:solidFill>
                <a:latin typeface="Lucida Sans Unicode"/>
                <a:ea typeface="Times New Roman"/>
              </a:rPr>
              <a:t>Santa Clara de Asís Mejor Proyecto Educativo 1998</a:t>
            </a:r>
            <a:br>
              <a:rPr sz="1600"/>
            </a:br>
            <a:r>
              <a:rPr b="0" lang="es-ES_tradnl" sz="1600" spc="-1" strike="noStrike">
                <a:solidFill>
                  <a:srgbClr val="b2b2b2"/>
                </a:solidFill>
                <a:latin typeface="Lucida Sans Unicode"/>
                <a:ea typeface="Times New Roman"/>
              </a:rPr>
              <a:t>Martín Fierro Mejor Programa Cultural/Educativo 1999</a:t>
            </a:r>
            <a:br>
              <a:rPr sz="1600"/>
            </a:br>
            <a:r>
              <a:rPr b="0" lang="pt-BR" sz="1600" spc="-1" strike="noStrike">
                <a:solidFill>
                  <a:srgbClr val="b2b2b2"/>
                </a:solidFill>
                <a:latin typeface="Lucida Sans Unicode"/>
                <a:ea typeface="Times New Roman"/>
              </a:rPr>
              <a:t>Juntos Educar 2000, Vicaría Episcopal de Educación - Arzobispado de Buenos 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22:24:14Z</dcterms:created>
  <dc:creator>Andrea Luswarghi</dc:creator>
  <dc:description/>
  <dc:language>en-US</dc:language>
  <cp:lastModifiedBy>Andrea Luswarghi</cp:lastModifiedBy>
  <dcterms:modified xsi:type="dcterms:W3CDTF">2001-08-06T22:26:48Z</dcterms:modified>
  <cp:revision>2</cp:revision>
  <dc:subject/>
  <dc:title>Apresentação do PowerPoint</dc:title>
</cp:coreProperties>
</file>