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883-03CD-42D4-9A4C-A9920C50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EA1-19D0-4CD5-BD0D-EDBC8FA0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06A-8002-48C4-B6C5-7DCA68CF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65A-9BAB-4BD3-95E0-D55B3DA0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B40-B0FC-41F7-8CEB-DD8E73F2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B6CA-713B-476B-886C-4DDDABF2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A22-0692-4C1E-BA2A-B0ADEA6E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5C3-DAF9-4436-8940-F0979228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2F9-C6CA-4013-8A12-7595C5F4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26B7-47A2-4C83-81B3-42E88EE3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70D-416D-4A9C-80DF-441FFCB5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0F7-D74F-4AD3-98DD-9D831ABF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BFAA-35B4-4BB7-8C5E-22D077380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04920" y="304920"/>
            <a:ext cx="8458200" cy="6435720"/>
            <a:chOff x="304920" y="304920"/>
            <a:chExt cx="8458200" cy="6435720"/>
          </a:xfrm>
        </p:grpSpPr>
        <p:graphicFrame>
          <p:nvGraphicFramePr>
            <p:cNvPr id="43" name=""/>
            <p:cNvGraphicFramePr/>
            <p:nvPr/>
          </p:nvGraphicFramePr>
          <p:xfrm>
            <a:off x="380880" y="2438280"/>
            <a:ext cx="4953240" cy="430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438280"/>
                      <a:ext cx="4953240" cy="430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304920" y="457200"/>
              <a:ext cx="845820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66"/>
                  </a:solidFill>
                  <a:latin typeface="Lucida Sans Unicode"/>
                </a:rPr>
                <a:t>T e n d ê n c i a s  e m</a:t>
              </a:r>
              <a:r>
                <a:rPr b="1" lang="en-US" sz="4800" spc="-1" strike="noStrike">
                  <a:solidFill>
                    <a:srgbClr val="ffff66"/>
                  </a:solidFill>
                  <a:latin typeface="Lucida Sans Unicode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66"/>
                  </a:solidFill>
                  <a:latin typeface="Lucida Sans Unicode"/>
                </a:rPr>
                <a:t>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66"/>
                  </a:solidFill>
                  <a:latin typeface="Lucida Sans Unicode"/>
                </a:rPr>
                <a:t>           </a:t>
              </a:r>
              <a:r>
                <a:rPr b="1" lang="en-US" sz="5400" spc="-1" strike="noStrike">
                  <a:solidFill>
                    <a:srgbClr val="ffff66"/>
                  </a:solidFill>
                  <a:latin typeface="Lucida Sans Unicode"/>
                </a:rPr>
                <a:t>EAD na Argentin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" name=""/>
            <p:cNvGraphicFramePr/>
            <p:nvPr/>
          </p:nvGraphicFramePr>
          <p:xfrm>
            <a:off x="6705720" y="304920"/>
            <a:ext cx="1752480" cy="923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05720" y="304920"/>
                      <a:ext cx="1752480" cy="92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5194440" y="5562720"/>
              <a:ext cx="273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ffffff"/>
                  </a:solidFill>
                  <a:latin typeface="Lucida Sans Unicode"/>
                </a:rPr>
                <a:t>Daniel Luzz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66840" y="838080"/>
            <a:ext cx="8267040" cy="5715000"/>
            <a:chOff x="366840" y="838080"/>
            <a:chExt cx="8267040" cy="5715000"/>
          </a:xfrm>
        </p:grpSpPr>
        <p:graphicFrame>
          <p:nvGraphicFramePr>
            <p:cNvPr id="50" name=""/>
            <p:cNvGraphicFramePr/>
            <p:nvPr/>
          </p:nvGraphicFramePr>
          <p:xfrm>
            <a:off x="2286000" y="1692360"/>
            <a:ext cx="4724280" cy="4103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1692360"/>
                      <a:ext cx="4724280" cy="410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 txBox="1"/>
            <p:nvPr/>
          </p:nvSpPr>
          <p:spPr>
            <a:xfrm>
              <a:off x="1828800" y="2286000"/>
              <a:ext cx="5562720" cy="261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b2b2b2"/>
                    </a:outerShdw>
                  </a:effectLst>
                  <a:latin typeface="Arial Black"/>
                </a:rPr>
                <a:t>Globalização</a:t>
              </a:r>
              <a:endParaRPr b="0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b2b2b2"/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b2b2b2"/>
                    </a:outerShdw>
                  </a:effectLst>
                  <a:latin typeface="Arial Black"/>
                </a:rPr>
                <a:t>Educativa</a:t>
              </a:r>
              <a:endParaRPr b="0" lang="en-US" sz="4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b2b2b2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609480" y="838080"/>
              <a:ext cx="7925040" cy="5715000"/>
              <a:chOff x="609480" y="838080"/>
              <a:chExt cx="7925040" cy="5715000"/>
            </a:xfrm>
          </p:grpSpPr>
          <p:sp>
            <p:nvSpPr>
              <p:cNvPr id="54" name=""/>
              <p:cNvSpPr/>
              <p:nvPr/>
            </p:nvSpPr>
            <p:spPr>
              <a:xfrm>
                <a:off x="609480" y="838080"/>
                <a:ext cx="7925040" cy="5715000"/>
              </a:xfrm>
              <a:prstGeom prst="ellipse">
                <a:avLst/>
              </a:prstGeom>
              <a:noFill/>
              <a:ln w="284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80040" y="4142880"/>
                <a:ext cx="141120" cy="344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59240" y="6553080"/>
                <a:ext cx="424440" cy="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4429800" y="838080"/>
                <a:ext cx="424440" cy="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8392320" y="2903760"/>
                <a:ext cx="141480" cy="48168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366840" y="1143000"/>
              <a:ext cx="363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Lucida Sans Unicode"/>
                </a:rPr>
                <a:t>Revolução Tecnológ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3200" y="5334120"/>
              <a:ext cx="335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Lucida Sans Unicode"/>
                </a:rPr>
                <a:t>Queda das Barreiras </a:t>
              </a:r>
              <a:br>
                <a:rPr sz="2400"/>
              </a:br>
              <a:r>
                <a:rPr b="1" lang="en-US" sz="2400" spc="-1" strike="noStrike">
                  <a:solidFill>
                    <a:srgbClr val="ffff66"/>
                  </a:solidFill>
                  <a:latin typeface="Lucida Sans Unicode"/>
                </a:rPr>
                <a:t>Geográfic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92560" y="5349960"/>
              <a:ext cx="239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Lucida Sans Unicode"/>
                </a:rPr>
                <a:t>Sociedade de </a:t>
              </a:r>
              <a:br>
                <a:rPr sz="2400"/>
              </a:br>
              <a:r>
                <a:rPr b="1" lang="en-US" sz="2400" spc="-1" strike="noStrike">
                  <a:solidFill>
                    <a:srgbClr val="ffff66"/>
                  </a:solidFill>
                  <a:latin typeface="Lucida Sans Unicode"/>
                </a:rPr>
                <a:t>Aprendizag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82120" y="1143000"/>
              <a:ext cx="355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Lucida Sans Unicode"/>
                </a:rPr>
                <a:t>Mudança Perman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318960"/>
            <a:ext cx="9144000" cy="6462720"/>
            <a:chOff x="0" y="318960"/>
            <a:chExt cx="9144000" cy="6462720"/>
          </a:xfrm>
        </p:grpSpPr>
        <p:graphicFrame>
          <p:nvGraphicFramePr>
            <p:cNvPr id="64" name=""/>
            <p:cNvGraphicFramePr/>
            <p:nvPr/>
          </p:nvGraphicFramePr>
          <p:xfrm>
            <a:off x="3048120" y="1905120"/>
            <a:ext cx="3276360" cy="284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1905120"/>
                      <a:ext cx="3276360" cy="284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7391520" y="1676520"/>
              <a:ext cx="1752480" cy="137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3228" y="1775"/>
                  </a:moveTo>
                  <a:lnTo>
                    <a:pt x="-939" y="1800"/>
                  </a:lnTo>
                </a:path>
                <a:path w="21600" h="21600">
                  <a:moveTo>
                    <a:pt x="-939" y="0"/>
                  </a:moveTo>
                  <a:lnTo>
                    <a:pt x="-939" y="21600"/>
                  </a:lnTo>
                </a:path>
              </a:pathLst>
            </a:custGeom>
            <a:solidFill>
              <a:srgbClr val="0033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ddddd"/>
                  </a:solidFill>
                  <a:latin typeface="Verdana"/>
                </a:rPr>
                <a:t>Banco Mundial</a:t>
              </a:r>
              <a:br>
                <a:rPr sz="1600"/>
              </a:br>
              <a:r>
                <a:rPr b="0" lang="en-US" sz="1600" spc="-1" strike="noStrike">
                  <a:solidFill>
                    <a:srgbClr val="dddddd"/>
                  </a:solidFill>
                  <a:latin typeface="Verdana"/>
                </a:rPr>
                <a:t>BID – UNESCO – PNUMA – PNUD - OEI</a:t>
              </a:r>
              <a:br>
                <a:rPr sz="1600"/>
              </a:br>
              <a:r>
                <a:rPr b="0" lang="en-US" sz="1600" spc="-1" strike="noStrike">
                  <a:solidFill>
                    <a:srgbClr val="dddddd"/>
                  </a:solidFill>
                  <a:latin typeface="Verdana"/>
                </a:rPr>
                <a:t> O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0080" y="1371600"/>
              <a:ext cx="119520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33562" y="24469"/>
                  </a:moveTo>
                  <a:lnTo>
                    <a:pt x="22977" y="4000"/>
                  </a:lnTo>
                </a:path>
                <a:path w="21600" h="21600">
                  <a:moveTo>
                    <a:pt x="22977" y="0"/>
                  </a:moveTo>
                  <a:lnTo>
                    <a:pt x="22977" y="21600"/>
                  </a:lnTo>
                </a:path>
              </a:pathLst>
            </a:custGeom>
            <a:solidFill>
              <a:srgbClr val="0033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Arag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Laspa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849400"/>
              <a:ext cx="1219320" cy="1798920"/>
            </a:xfrm>
            <a:solidFill>
              <a:srgbClr val="0033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Harv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Oxf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Berkel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U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Op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Stanf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Sorbon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86600" y="4419720"/>
              <a:ext cx="1976400" cy="2361960"/>
            </a:xfrm>
            <a:solidFill>
              <a:srgbClr val="0033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IB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Cisco Syst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ORA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Cent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c0c0c0"/>
                  </a:solidFill>
                  <a:latin typeface="Arial"/>
                  <a:ea typeface="Arial"/>
                </a:rPr>
                <a:t>Smart Force</a:t>
              </a:r>
              <a:r>
                <a:rPr b="0" lang="pt-PT" sz="1800" spc="-1" strike="noStrike">
                  <a:solidFill>
                    <a:srgbClr val="c0c0c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Telefôn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Tele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Art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Pricewaterh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70800" y="4348080"/>
              <a:ext cx="1544760" cy="368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Verdana"/>
                </a:rPr>
                <a:t>Associaçõ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72200" y="4495680"/>
              <a:ext cx="1357200" cy="838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813" y="2945"/>
                  </a:moveTo>
                  <a:lnTo>
                    <a:pt x="23672" y="2945"/>
                  </a:lnTo>
                  <a:lnTo>
                    <a:pt x="23672" y="-2168"/>
                  </a:lnTo>
                  <a:lnTo>
                    <a:pt x="20867" y="-7282"/>
                  </a:lnTo>
                </a:path>
                <a:path w="21600" h="21600">
                  <a:moveTo>
                    <a:pt x="22813" y="0"/>
                  </a:moveTo>
                  <a:lnTo>
                    <a:pt x="22813" y="21600"/>
                  </a:lnTo>
                </a:path>
              </a:pathLst>
            </a:custGeom>
            <a:solidFill>
              <a:srgbClr val="0033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ddddd"/>
                  </a:solidFill>
                  <a:latin typeface="Verdana"/>
                </a:rPr>
                <a:t>Naciona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ddddd"/>
                  </a:solidFill>
                  <a:latin typeface="Verdana"/>
                </a:rPr>
                <a:t>Estadua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ddddd"/>
                  </a:solidFill>
                  <a:latin typeface="Verdana"/>
                </a:rPr>
                <a:t>Municipa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733920" y="4723920"/>
              <a:ext cx="0" cy="7621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94760" y="5486400"/>
              <a:ext cx="4986000" cy="10674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União de Universidades da América Lati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Organização Universitária Interameric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0c0c0"/>
                  </a:solidFill>
                  <a:latin typeface="Verdana"/>
                </a:rPr>
                <a:t>Inter. Council for Open and distance Edu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Verdana"/>
                  <a:ea typeface="Times New Roman"/>
                </a:rPr>
                <a:t>The Interamerican Distance Education Consorti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38760" y="3281400"/>
              <a:ext cx="1284120" cy="368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Verdana"/>
                </a:rPr>
                <a:t>Empre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0600" y="1604880"/>
              <a:ext cx="1910520" cy="64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Verdana"/>
                </a:rPr>
                <a:t>Organismos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br>
                <a:rPr sz="1800"/>
              </a:br>
              <a:r>
                <a:rPr b="1" lang="en-US" sz="1800" spc="-1" strike="noStrike">
                  <a:solidFill>
                    <a:srgbClr val="ffff66"/>
                  </a:solidFill>
                  <a:latin typeface="Verdana"/>
                </a:rPr>
                <a:t>Internacionais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69080" y="3124080"/>
              <a:ext cx="1805400" cy="368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Verdana"/>
                </a:rPr>
                <a:t>Universida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07800" y="2062080"/>
              <a:ext cx="1459440" cy="368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Verdana"/>
                </a:rPr>
                <a:t>Fundações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16760" y="3890880"/>
              <a:ext cx="1264320" cy="368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Verdana"/>
                </a:rPr>
                <a:t>Gover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18560" y="318960"/>
              <a:ext cx="5848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66"/>
                  </a:solidFill>
                  <a:latin typeface="Lucida Sans Unicode"/>
                </a:rPr>
                <a:t>MERCADO GLOBAL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76320" y="117360"/>
            <a:ext cx="9067680" cy="6939000"/>
            <a:chOff x="76320" y="117360"/>
            <a:chExt cx="9067680" cy="6939000"/>
          </a:xfrm>
        </p:grpSpPr>
        <p:graphicFrame>
          <p:nvGraphicFramePr>
            <p:cNvPr id="81" name=""/>
            <p:cNvGraphicFramePr/>
            <p:nvPr/>
          </p:nvGraphicFramePr>
          <p:xfrm>
            <a:off x="76320" y="117360"/>
            <a:ext cx="2057400" cy="178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117360"/>
                      <a:ext cx="2057400" cy="178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2020680" y="700200"/>
              <a:ext cx="5342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66"/>
                  </a:solidFill>
                  <a:latin typeface="Lucida Sans Unicode"/>
                </a:rPr>
                <a:t>ALIANÇAS </a:t>
              </a:r>
              <a:r>
                <a:rPr b="1" lang="en-US" sz="4000" spc="-1" strike="noStrike">
                  <a:solidFill>
                    <a:srgbClr val="ffff66"/>
                  </a:solidFill>
                  <a:latin typeface="Lucida Sans Unicode"/>
                </a:rPr>
                <a:t>em EA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57200" y="2322360"/>
              <a:ext cx="8686440" cy="1142640"/>
              <a:chOff x="457200" y="2322360"/>
              <a:chExt cx="8686440" cy="1142640"/>
            </a:xfrm>
          </p:grpSpPr>
          <p:sp>
            <p:nvSpPr>
              <p:cNvPr id="85" name=""/>
              <p:cNvSpPr/>
              <p:nvPr/>
            </p:nvSpPr>
            <p:spPr>
              <a:xfrm>
                <a:off x="457200" y="2322360"/>
                <a:ext cx="8686440" cy="11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57200" y="2322360"/>
                <a:ext cx="8686440" cy="11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57200" y="1828800"/>
              <a:ext cx="8686800" cy="52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b2b2b2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b2b2b2"/>
                  </a:solidFill>
                  <a:latin typeface="Lucida Sans Unicode"/>
                </a:rPr>
                <a:t>  </a:t>
              </a:r>
              <a:r>
                <a:rPr b="1" lang="pt-BR" sz="2000" spc="-1" strike="noStrike">
                  <a:solidFill>
                    <a:srgbClr val="ffffff"/>
                  </a:solidFill>
                  <a:latin typeface="Lucida Sans Unicode"/>
                </a:rPr>
                <a:t>Formar S.A</a:t>
              </a:r>
              <a:r>
                <a:rPr b="0" lang="pt-BR" sz="2000" spc="-1" strike="noStrike">
                  <a:solidFill>
                    <a:srgbClr val="ffffff"/>
                  </a:solidFill>
                  <a:latin typeface="Lucida Sans Unicode"/>
                </a:rPr>
                <a:t>.</a:t>
              </a:r>
              <a:r>
                <a:rPr b="0" lang="pt-BR" sz="2000" spc="-1" strike="noStrike">
                  <a:solidFill>
                    <a:srgbClr val="b2b2b2"/>
                  </a:solidFill>
                  <a:latin typeface="Lucida Sans Unicode"/>
                </a:rPr>
                <a:t> convênio com a prefeitura de Buenos Ai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b2b2b2"/>
                  </a:solidFill>
                  <a:latin typeface="Lucida Sans Unicode"/>
                </a:rPr>
                <a:t>  </a:t>
              </a:r>
              <a:r>
                <a:rPr b="1" lang="pt-PT" sz="2000" spc="-1" strike="noStrike">
                  <a:solidFill>
                    <a:srgbClr val="ffffff"/>
                  </a:solidFill>
                  <a:latin typeface="Lucida Sans Unicode"/>
                </a:rPr>
                <a:t>Fundación Aragón e LASPAU (Harvard),</a:t>
              </a:r>
              <a:r>
                <a:rPr b="0" lang="pt-PT" sz="2000" spc="-1" strike="noStrike">
                  <a:solidFill>
                    <a:srgbClr val="b2b2b2"/>
                  </a:solidFill>
                  <a:latin typeface="Lucida Sans Unicode"/>
                </a:rPr>
                <a:t> cursos de EAD  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b2b2b2"/>
                  </a:solidFill>
                  <a:latin typeface="Lucida Sans Unicode"/>
                </a:rPr>
                <a:t>    </a:t>
              </a:r>
              <a:r>
                <a:rPr b="0" lang="pt-PT" sz="2000" spc="-1" strike="noStrike">
                  <a:solidFill>
                    <a:srgbClr val="b2b2b2"/>
                  </a:solidFill>
                  <a:latin typeface="Lucida Sans Unicode"/>
                </a:rPr>
                <a:t>Massachusetts Institute of Technology, UCBerkeley, Rochest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b2b2b2"/>
                  </a:solidFill>
                  <a:latin typeface="Lucida Sans Unicode"/>
                </a:rPr>
                <a:t>    </a:t>
              </a:r>
              <a:r>
                <a:rPr b="0" lang="pt-PT" sz="2000" spc="-1" strike="noStrike">
                  <a:solidFill>
                    <a:srgbClr val="b2b2b2"/>
                  </a:solidFill>
                  <a:latin typeface="Lucida Sans Unicode"/>
                </a:rPr>
                <a:t>Institute of Technology, et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b2b2b2"/>
                  </a:solidFill>
                  <a:latin typeface="Lucida Sans Unicode"/>
                </a:rPr>
                <a:t>  </a:t>
              </a:r>
              <a:r>
                <a:rPr b="1" lang="pt-BR" sz="2000" spc="-1" strike="noStrike">
                  <a:solidFill>
                    <a:srgbClr val="ffffff"/>
                  </a:solidFill>
                  <a:latin typeface="Lucida Sans Unicode"/>
                </a:rPr>
                <a:t>UBA.net</a:t>
              </a:r>
              <a:r>
                <a:rPr b="1" lang="pt-BR" sz="2000" spc="-1" strike="noStrike">
                  <a:solidFill>
                    <a:srgbClr val="b2b2b2"/>
                  </a:solidFill>
                  <a:latin typeface="Lucida Sans Unicode"/>
                </a:rPr>
                <a:t> </a:t>
              </a:r>
              <a:r>
                <a:rPr b="0" lang="pt-BR" sz="2000" spc="-1" strike="noStrike">
                  <a:solidFill>
                    <a:srgbClr val="b2b2b2"/>
                  </a:solidFill>
                  <a:latin typeface="Lucida Sans Unicode"/>
                </a:rPr>
                <a:t>com Telecom Itál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b2b2b2"/>
                  </a:solidFill>
                  <a:latin typeface="Lucida Sans Unicode"/>
                </a:rPr>
                <a:t>  </a:t>
              </a:r>
              <a:r>
                <a:rPr b="1" lang="pt-BR" sz="2000" spc="-1" strike="noStrike">
                  <a:solidFill>
                    <a:srgbClr val="ffffff"/>
                  </a:solidFill>
                  <a:latin typeface="Lucida Sans Unicode"/>
                </a:rPr>
                <a:t>UTN</a:t>
              </a:r>
              <a:r>
                <a:rPr b="1" lang="pt-BR" sz="2000" spc="-1" strike="noStrike">
                  <a:solidFill>
                    <a:srgbClr val="b2b2b2"/>
                  </a:solidFill>
                  <a:latin typeface="Lucida Sans Unicode"/>
                </a:rPr>
                <a:t>  </a:t>
              </a:r>
              <a:r>
                <a:rPr b="0" lang="pt-BR" sz="2000" spc="-1" strike="noStrike">
                  <a:solidFill>
                    <a:srgbClr val="b2b2b2"/>
                  </a:solidFill>
                  <a:latin typeface="Lucida Sans Unicode"/>
                </a:rPr>
                <a:t>com Banco Mundial (Rede Global de Aprendizagem), MIT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b2b2b2"/>
                  </a:solidFill>
                  <a:latin typeface="Lucida Sans Unicode"/>
                </a:rPr>
                <a:t>    </a:t>
              </a:r>
              <a:r>
                <a:rPr b="0" lang="pt-BR" sz="2000" spc="-1" strike="noStrike">
                  <a:solidFill>
                    <a:srgbClr val="b2b2b2"/>
                  </a:solidFill>
                  <a:latin typeface="Lucida Sans Unicode"/>
                </a:rPr>
                <a:t>Ministério do Trabalh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b2b2b2"/>
                  </a:solidFill>
                  <a:latin typeface="Lucida Sans Unicode"/>
                </a:rPr>
                <a:t>  </a:t>
              </a:r>
              <a:r>
                <a:rPr b="1" lang="pt-BR" sz="2000" spc="-1" strike="noStrike">
                  <a:solidFill>
                    <a:srgbClr val="ffffff"/>
                  </a:solidFill>
                  <a:latin typeface="Lucida Sans Unicode"/>
                </a:rPr>
                <a:t>Universidade do Salvador</a:t>
              </a:r>
              <a:r>
                <a:rPr b="1" lang="pt-BR" sz="2000" spc="-1" strike="noStrike">
                  <a:solidFill>
                    <a:srgbClr val="b2b2b2"/>
                  </a:solidFill>
                  <a:latin typeface="Lucida Sans Unicode"/>
                </a:rPr>
                <a:t> </a:t>
              </a:r>
              <a:r>
                <a:rPr b="0" lang="pt-BR" sz="2000" spc="-1" strike="noStrike">
                  <a:solidFill>
                    <a:srgbClr val="b2b2b2"/>
                  </a:solidFill>
                  <a:latin typeface="Lucida Sans Unicode"/>
                </a:rPr>
                <a:t>com Sorbon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b2b2b2"/>
                  </a:solidFill>
                  <a:latin typeface="Lucida Sans Unicode"/>
                </a:rPr>
                <a:t>  </a:t>
              </a:r>
              <a:r>
                <a:rPr b="1" lang="pt-BR" sz="2000" spc="-1" strike="noStrike">
                  <a:solidFill>
                    <a:srgbClr val="ffffff"/>
                  </a:solidFill>
                  <a:latin typeface="Lucida Sans Unicode"/>
                </a:rPr>
                <a:t>Educ.ar</a:t>
              </a:r>
              <a:r>
                <a:rPr b="1" lang="pt-BR" sz="2000" spc="-1" strike="noStrike">
                  <a:solidFill>
                    <a:srgbClr val="b2b2b2"/>
                  </a:solidFill>
                  <a:latin typeface="Lucida Sans Unicode"/>
                </a:rPr>
                <a:t> </a:t>
              </a:r>
              <a:r>
                <a:rPr b="0" lang="pt-BR" sz="2000" spc="-1" strike="noStrike">
                  <a:solidFill>
                    <a:srgbClr val="b2b2b2"/>
                  </a:solidFill>
                  <a:latin typeface="Lucida Sans Unicode"/>
                </a:rPr>
                <a:t>com Cisco System, Oracle, Su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b2b2b2"/>
                  </a:solidFill>
                  <a:latin typeface="Lucida Sans Unicode"/>
                </a:rPr>
                <a:t>  </a:t>
              </a:r>
              <a:r>
                <a:rPr b="1" lang="pt-BR" sz="2000" spc="-1" strike="noStrike">
                  <a:solidFill>
                    <a:srgbClr val="ffffff"/>
                  </a:solidFill>
                  <a:latin typeface="Lucida Sans Unicode"/>
                </a:rPr>
                <a:t>Rede de EAD do Centro Oeste</a:t>
              </a:r>
              <a:r>
                <a:rPr b="1" lang="pt-BR" sz="2000" spc="-1" strike="noStrike">
                  <a:solidFill>
                    <a:srgbClr val="b2b2b2"/>
                  </a:solidFill>
                  <a:latin typeface="Lucida Sans Unicode"/>
                </a:rPr>
                <a:t>, sete universidades nacionais</a:t>
              </a:r>
              <a:r>
                <a:rPr b="1" lang="pt-BR" sz="1800" spc="-1" strike="noStrike">
                  <a:solidFill>
                    <a:srgbClr val="b2b2b2"/>
                  </a:solidFill>
                  <a:latin typeface="Lucida Sans Unicode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117360"/>
            <a:ext cx="9144000" cy="6700680"/>
            <a:chOff x="0" y="117360"/>
            <a:chExt cx="9144000" cy="6700680"/>
          </a:xfrm>
        </p:grpSpPr>
        <p:graphicFrame>
          <p:nvGraphicFramePr>
            <p:cNvPr id="89" name=""/>
            <p:cNvGraphicFramePr/>
            <p:nvPr/>
          </p:nvGraphicFramePr>
          <p:xfrm>
            <a:off x="152280" y="117360"/>
            <a:ext cx="2057400" cy="178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17360"/>
                      <a:ext cx="2057400" cy="178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3045600" y="700200"/>
              <a:ext cx="295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66"/>
                  </a:solidFill>
                  <a:latin typeface="Lucida Sans Unicode"/>
                </a:rPr>
                <a:t>CENÁRI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57200" y="2322360"/>
              <a:ext cx="8686440" cy="1142640"/>
              <a:chOff x="457200" y="2322360"/>
              <a:chExt cx="8686440" cy="1142640"/>
            </a:xfrm>
          </p:grpSpPr>
          <p:sp>
            <p:nvSpPr>
              <p:cNvPr id="93" name=""/>
              <p:cNvSpPr/>
              <p:nvPr/>
            </p:nvSpPr>
            <p:spPr>
              <a:xfrm>
                <a:off x="457200" y="2322360"/>
                <a:ext cx="8686440" cy="11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57200" y="2322360"/>
                <a:ext cx="8686440" cy="11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95" name=""/>
            <p:cNvGraphicFramePr/>
            <p:nvPr/>
          </p:nvGraphicFramePr>
          <p:xfrm>
            <a:off x="76320" y="1971720"/>
            <a:ext cx="9067680" cy="13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1971720"/>
                      <a:ext cx="9067680" cy="13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0" y="2971800"/>
              <a:ext cx="914400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2280" y="3124080"/>
              <a:ext cx="891540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66"/>
                  </a:solidFill>
                  <a:latin typeface="Lucida Sans Unicode"/>
                  <a:ea typeface="Times New Roman"/>
                </a:rPr>
                <a:t>Empresa formada por Trainet (Grupo Telecom Italia) e U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28800" y="3809880"/>
              <a:ext cx="5410080" cy="300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99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99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99"/>
                  </a:solidFill>
                  <a:latin typeface="Lucida Sans Unicode"/>
                  <a:ea typeface="Times New Roman"/>
                </a:rPr>
                <a:t>  </a:t>
              </a:r>
              <a:r>
                <a:rPr b="0" lang="es-ES_tradnl" sz="2000" spc="-1" strike="noStrike">
                  <a:solidFill>
                    <a:srgbClr val="ffff99"/>
                  </a:solidFill>
                  <a:latin typeface="Lucida Sans Unicode"/>
                  <a:ea typeface="Times New Roman"/>
                </a:rPr>
                <a:t>Presidente: TELE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99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99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99"/>
                  </a:solidFill>
                  <a:latin typeface="Lucida Sans Unicode"/>
                  <a:ea typeface="Times New Roman"/>
                </a:rPr>
                <a:t>  </a:t>
              </a:r>
              <a:r>
                <a:rPr b="0" lang="es-ES_tradnl" sz="2000" spc="-1" strike="noStrike">
                  <a:solidFill>
                    <a:srgbClr val="ffff99"/>
                  </a:solidFill>
                  <a:latin typeface="Lucida Sans Unicode"/>
                  <a:ea typeface="Times New Roman"/>
                </a:rPr>
                <a:t>Área acadêmica: U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99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99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99"/>
                  </a:solidFill>
                  <a:latin typeface="Lucida Sans Unicode"/>
                  <a:ea typeface="Times New Roman"/>
                </a:rPr>
                <a:t>  </a:t>
              </a:r>
              <a:r>
                <a:rPr b="0" lang="es-ES_tradnl" sz="2000" spc="-1" strike="noStrike">
                  <a:solidFill>
                    <a:srgbClr val="ffff99"/>
                  </a:solidFill>
                  <a:latin typeface="Lucida Sans Unicode"/>
                  <a:ea typeface="Times New Roman"/>
                </a:rPr>
                <a:t>Área Comercial: ex-Ora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99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99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99"/>
                  </a:solidFill>
                  <a:latin typeface="Lucida Sans Unicode"/>
                  <a:ea typeface="Times New Roman"/>
                </a:rPr>
                <a:t>  </a:t>
              </a:r>
              <a:r>
                <a:rPr b="0" lang="es-ES_tradnl" sz="2000" spc="-1" strike="noStrike">
                  <a:solidFill>
                    <a:srgbClr val="ffff99"/>
                  </a:solidFill>
                  <a:latin typeface="Lucida Sans Unicode"/>
                  <a:ea typeface="Times New Roman"/>
                </a:rPr>
                <a:t>Área Financeira: ex gerente de banco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ffff99"/>
                  </a:solidFill>
                  <a:latin typeface="Lucida Sans Unicode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52280" y="117360"/>
          <a:ext cx="20574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7360"/>
                    <a:ext cx="20574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76320" y="685800"/>
            <a:ext cx="9067680" cy="6172200"/>
            <a:chOff x="76320" y="685800"/>
            <a:chExt cx="9067680" cy="6172200"/>
          </a:xfrm>
        </p:grpSpPr>
        <p:sp>
          <p:nvSpPr>
            <p:cNvPr id="103" name=""/>
            <p:cNvSpPr/>
            <p:nvPr/>
          </p:nvSpPr>
          <p:spPr>
            <a:xfrm>
              <a:off x="3045600" y="700200"/>
              <a:ext cx="295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66"/>
                  </a:solidFill>
                  <a:latin typeface="Lucida Sans Unicode"/>
                </a:rPr>
                <a:t>CENÁRI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523880" y="5715000"/>
              <a:ext cx="6400080" cy="1143000"/>
              <a:chOff x="1523880" y="5715000"/>
              <a:chExt cx="6400080" cy="1143000"/>
            </a:xfrm>
          </p:grpSpPr>
          <p:sp>
            <p:nvSpPr>
              <p:cNvPr id="105" name=""/>
              <p:cNvSpPr/>
              <p:nvPr/>
            </p:nvSpPr>
            <p:spPr>
              <a:xfrm>
                <a:off x="1537200" y="5721840"/>
                <a:ext cx="6373440" cy="360"/>
              </a:xfrm>
              <a:prstGeom prst="rect">
                <a:avLst/>
              </a:prstGeom>
              <a:noFill/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1523880" y="5715000"/>
                <a:ext cx="6400080" cy="1143000"/>
                <a:chOff x="1523880" y="5715000"/>
                <a:chExt cx="6400080" cy="114300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1537200" y="5721840"/>
                  <a:ext cx="6372720" cy="1129320"/>
                  <a:chOff x="1537200" y="5721840"/>
                  <a:chExt cx="6372720" cy="112932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1537200" y="5721840"/>
                    <a:ext cx="6372720" cy="1129320"/>
                  </a:xfrm>
                  <a:prstGeom prst="rect">
                    <a:avLst/>
                  </a:prstGeom>
                  <a:noFill/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buClr>
                        <a:srgbClr val="ffff99"/>
                      </a:buClr>
                      <a:buFont typeface="Verdana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99"/>
                        </a:solidFill>
                        <a:latin typeface="Verdana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ffff99"/>
                        </a:solidFill>
                        <a:latin typeface="Verdana"/>
                      </a:rPr>
                      <a:t>Serviço gratuito a docentes e estudantes da UB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ffff99"/>
                      </a:buClr>
                      <a:buFont typeface="Verdana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ffff99"/>
                      </a:buClr>
                      <a:buFont typeface="Verdana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99"/>
                        </a:solidFill>
                        <a:latin typeface="Verdana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ffff99"/>
                        </a:solidFill>
                        <a:latin typeface="Verdana"/>
                      </a:rPr>
                      <a:t>Enriquece as disciplinas presenciais com materiais onlin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ffff99"/>
                      </a:buClr>
                      <a:buFont typeface="Verdana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ffff99"/>
                      </a:buClr>
                      <a:buFont typeface="Verdana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99"/>
                        </a:solidFill>
                        <a:latin typeface="Verdana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ffff99"/>
                        </a:solidFill>
                        <a:latin typeface="Verdana"/>
                      </a:rPr>
                      <a:t>Estrutura uma rede de alunos e professore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537200" y="5721840"/>
                    <a:ext cx="6372720" cy="1129320"/>
                  </a:xfrm>
                  <a:prstGeom prst="rect">
                    <a:avLst/>
                  </a:prstGeom>
                  <a:noFill/>
                  <a:ln w="0">
                    <a:solidFill>
                      <a:srgbClr val="5f5f5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1523880" y="5715000"/>
                  <a:ext cx="6400080" cy="1143000"/>
                </a:xfrm>
                <a:prstGeom prst="rect">
                  <a:avLst/>
                </a:prstGeom>
                <a:noFill/>
                <a:ln w="2232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" name=""/>
            <p:cNvSpPr/>
            <p:nvPr/>
          </p:nvSpPr>
          <p:spPr>
            <a:xfrm>
              <a:off x="152280" y="1600200"/>
              <a:ext cx="899172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Verdana"/>
                  <a:ea typeface="Times New Roman"/>
                </a:rPr>
                <a:t>Mercado:  400 milhões de pessoas de fala espa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Verdana"/>
                  <a:ea typeface="Times New Roman"/>
                </a:rPr>
                <a:t>TELECOM: Internet é elemento central da estratégia do Grupo, que participa de várias empresas na Espanha e países da América do Su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tuti_ubanet" descr=""/>
            <p:cNvPicPr/>
            <p:nvPr/>
          </p:nvPicPr>
          <p:blipFill>
            <a:blip r:embed="rId3"/>
            <a:stretch/>
          </p:blipFill>
          <p:spPr>
            <a:xfrm>
              <a:off x="76320" y="3666960"/>
              <a:ext cx="338112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tuti_uba" descr=""/>
            <p:cNvPicPr/>
            <p:nvPr/>
          </p:nvPicPr>
          <p:blipFill>
            <a:blip r:embed="rId4"/>
            <a:stretch/>
          </p:blipFill>
          <p:spPr>
            <a:xfrm>
              <a:off x="76320" y="2752560"/>
              <a:ext cx="338112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tuti_curso_ace" descr=""/>
            <p:cNvPicPr/>
            <p:nvPr/>
          </p:nvPicPr>
          <p:blipFill>
            <a:blip r:embed="rId5"/>
            <a:stretch/>
          </p:blipFill>
          <p:spPr>
            <a:xfrm>
              <a:off x="76320" y="4505400"/>
              <a:ext cx="33811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809880" y="3048120"/>
              <a:ext cx="5257800" cy="21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b2b2b2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b2b2b2"/>
                  </a:solidFill>
                  <a:latin typeface="Verdana"/>
                  <a:ea typeface="Times New Roman"/>
                </a:rPr>
                <a:t> </a:t>
              </a:r>
              <a:r>
                <a:rPr b="0" lang="es-ES_tradnl" sz="1600" spc="-1" strike="noStrike">
                  <a:solidFill>
                    <a:srgbClr val="b2b2b2"/>
                  </a:solidFill>
                  <a:latin typeface="Verdana"/>
                  <a:ea typeface="Times New Roman"/>
                </a:rPr>
                <a:t>Certificados da U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b2b2b2"/>
                  </a:solidFill>
                  <a:latin typeface="Verdana"/>
                  <a:ea typeface="Times New Roman"/>
                </a:rPr>
                <a:t> </a:t>
              </a:r>
              <a:r>
                <a:rPr b="0" lang="es-ES_tradnl" sz="1600" spc="-1" strike="noStrike">
                  <a:solidFill>
                    <a:srgbClr val="b2b2b2"/>
                  </a:solidFill>
                  <a:latin typeface="Verdana"/>
                  <a:ea typeface="Times New Roman"/>
                </a:rPr>
                <a:t>Oferta flexível (preço, tempo, loc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b2b2b2"/>
                  </a:solidFill>
                  <a:latin typeface="Verdana"/>
                  <a:ea typeface="Times New Roman"/>
                </a:rPr>
                <a:t> </a:t>
              </a:r>
              <a:r>
                <a:rPr b="0" lang="es-ES_tradnl" sz="1600" spc="-1" strike="noStrike">
                  <a:solidFill>
                    <a:srgbClr val="b2b2b2"/>
                  </a:solidFill>
                  <a:latin typeface="Verdana"/>
                  <a:ea typeface="Times New Roman"/>
                </a:rPr>
                <a:t>Propostas didáticas: compreensão e estratég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b2b2b2"/>
                  </a:solidFill>
                  <a:latin typeface="Verdana"/>
                  <a:ea typeface="Times New Roman"/>
                </a:rPr>
                <a:t> </a:t>
              </a:r>
              <a:r>
                <a:rPr b="0" lang="es-ES_tradnl" sz="1600" spc="-1" strike="noStrike">
                  <a:solidFill>
                    <a:srgbClr val="b2b2b2"/>
                  </a:solidFill>
                  <a:latin typeface="Verdana"/>
                  <a:ea typeface="Times New Roman"/>
                </a:rPr>
                <a:t>Enfoque prático e interativo, lúdico e amisto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b2b2b2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b2b2b2"/>
                  </a:solidFill>
                  <a:latin typeface="Verdana"/>
                  <a:ea typeface="Times New Roman"/>
                </a:rPr>
                <a:t> </a:t>
              </a:r>
              <a:r>
                <a:rPr b="0" lang="es-ES_tradnl" sz="1600" spc="-1" strike="noStrike">
                  <a:solidFill>
                    <a:srgbClr val="b2b2b2"/>
                  </a:solidFill>
                  <a:latin typeface="Verdana"/>
                  <a:ea typeface="Times New Roman"/>
                </a:rPr>
                <a:t>Tempo mínimo de conexão, baixos custos 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b2b2b2"/>
                  </a:solidFill>
                  <a:latin typeface="Verdana"/>
                  <a:ea typeface="Times New Roman"/>
                </a:rPr>
                <a:t>   </a:t>
              </a:r>
              <a:r>
                <a:rPr b="0" lang="es-ES_tradnl" sz="1600" spc="-1" strike="noStrike">
                  <a:solidFill>
                    <a:srgbClr val="b2b2b2"/>
                  </a:solidFill>
                  <a:latin typeface="Verdana"/>
                  <a:ea typeface="Times New Roman"/>
                </a:rPr>
                <a:t>alta velocidade</a:t>
              </a:r>
              <a:r>
                <a:rPr b="0" lang="pt-BR" sz="1600" spc="-1" strike="noStrike">
                  <a:solidFill>
                    <a:srgbClr val="b2b2b2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" name=""/>
            <p:cNvGraphicFramePr/>
            <p:nvPr/>
          </p:nvGraphicFramePr>
          <p:xfrm>
            <a:off x="6934320" y="685800"/>
            <a:ext cx="1523880" cy="638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934320" y="685800"/>
                      <a:ext cx="152388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01880" y="117360"/>
            <a:ext cx="8965800" cy="6283440"/>
            <a:chOff x="101880" y="117360"/>
            <a:chExt cx="8965800" cy="6283440"/>
          </a:xfrm>
        </p:grpSpPr>
        <p:graphicFrame>
          <p:nvGraphicFramePr>
            <p:cNvPr id="119" name=""/>
            <p:cNvGraphicFramePr/>
            <p:nvPr/>
          </p:nvGraphicFramePr>
          <p:xfrm>
            <a:off x="152280" y="117360"/>
            <a:ext cx="2057400" cy="178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17360"/>
                      <a:ext cx="2057400" cy="178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3045600" y="700200"/>
              <a:ext cx="295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66"/>
                  </a:solidFill>
                  <a:latin typeface="Lucida Sans Unicode"/>
                </a:rPr>
                <a:t>CENÁRI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6738840" y="762120"/>
            <a:ext cx="1947960" cy="625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38840" y="762120"/>
                      <a:ext cx="1947960" cy="62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152280" y="2209680"/>
              <a:ext cx="891540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u="sng">
                  <a:solidFill>
                    <a:srgbClr val="ffff66"/>
                  </a:solidFill>
                  <a:uFillTx/>
                  <a:latin typeface="Lucida Sans Unicode"/>
                  <a:ea typeface="Times New Roman"/>
                </a:rPr>
                <a:t>Educ.ar é a 1ª empresa de internet do Governo argenti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05120" y="4038480"/>
              <a:ext cx="6172200" cy="64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99"/>
                  </a:solidFill>
                  <a:latin typeface="Lucida Sans Unicode"/>
                  <a:ea typeface="Times New Roman"/>
                </a:rPr>
                <a:t>Investimento inicial: doação de US$11.282.855 </a:t>
              </a:r>
              <a:br>
                <a:rPr sz="1800"/>
              </a:br>
              <a:r>
                <a:rPr b="1" lang="pt-BR" sz="1800" spc="-1" strike="noStrike">
                  <a:solidFill>
                    <a:srgbClr val="ffff99"/>
                  </a:solidFill>
                  <a:latin typeface="Lucida Sans Unicode"/>
                  <a:ea typeface="Times New Roman"/>
                </a:rPr>
                <a:t>da Fundación Martín Varsavsk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0240" y="3067200"/>
              <a:ext cx="332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969696"/>
                  </a:solidFill>
                  <a:latin typeface="Lucida Sans Unicode"/>
                  <a:ea typeface="Times New Roman"/>
                </a:rPr>
                <a:t>Projeto: 3 pilares bási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44040" y="2817720"/>
              <a:ext cx="392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969696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69696"/>
                  </a:solidFill>
                  <a:latin typeface="Lucida Sans Unicode"/>
                  <a:ea typeface="Times New Roman"/>
                </a:rPr>
                <a:t> </a:t>
              </a:r>
              <a:r>
                <a:rPr b="1" lang="es-ES_tradnl" sz="1800" spc="-1" strike="noStrike">
                  <a:solidFill>
                    <a:srgbClr val="969696"/>
                  </a:solidFill>
                  <a:latin typeface="Lucida Sans Unicode"/>
                  <a:ea typeface="Times New Roman"/>
                </a:rPr>
                <a:t>portal de conteúdos educati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969696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69696"/>
                  </a:solidFill>
                  <a:latin typeface="Lucida Sans Unicode"/>
                  <a:ea typeface="Times New Roman"/>
                </a:rPr>
                <a:t> </a:t>
              </a:r>
              <a:r>
                <a:rPr b="1" lang="es-ES_tradnl" sz="1800" spc="-1" strike="noStrike">
                  <a:solidFill>
                    <a:srgbClr val="969696"/>
                  </a:solidFill>
                  <a:latin typeface="Lucida Sans Unicode"/>
                  <a:ea typeface="Times New Roman"/>
                </a:rPr>
                <a:t>plano de capacitação doc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969696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69696"/>
                  </a:solidFill>
                  <a:latin typeface="Lucida Sans Unicode"/>
                  <a:ea typeface="Times New Roman"/>
                </a:rPr>
                <a:t> </a:t>
              </a:r>
              <a:r>
                <a:rPr b="1" lang="es-ES_tradnl" sz="1800" spc="-1" strike="noStrike">
                  <a:solidFill>
                    <a:srgbClr val="969696"/>
                  </a:solidFill>
                  <a:latin typeface="Lucida Sans Unicode"/>
                  <a:ea typeface="Times New Roman"/>
                </a:rPr>
                <a:t>plano de conectiv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1880" y="5105520"/>
              <a:ext cx="304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99"/>
                  </a:solidFill>
                  <a:latin typeface="Lucida Sans Unicode"/>
                  <a:ea typeface="Times New Roman"/>
                </a:rPr>
                <a:t>SÓCIOS ESTRATÉGICOS</a:t>
              </a:r>
              <a:r>
                <a:rPr b="1" lang="es-ES_tradnl" sz="2000" spc="-1" strike="noStrike">
                  <a:solidFill>
                    <a:srgbClr val="ffff99"/>
                  </a:solidFill>
                  <a:latin typeface="Lucida Sans Unicode"/>
                  <a:ea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152280" y="5680080"/>
            <a:ext cx="1143000" cy="720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5680080"/>
                      <a:ext cx="114300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"/>
            <p:cNvGraphicFramePr/>
            <p:nvPr/>
          </p:nvGraphicFramePr>
          <p:xfrm>
            <a:off x="2900520" y="5952960"/>
            <a:ext cx="1290600" cy="447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00520" y="5952960"/>
                      <a:ext cx="12906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"/>
            <p:cNvGraphicFramePr/>
            <p:nvPr/>
          </p:nvGraphicFramePr>
          <p:xfrm>
            <a:off x="1571760" y="5562720"/>
            <a:ext cx="1019160" cy="815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71760" y="5562720"/>
                      <a:ext cx="1019160" cy="81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"/>
            <p:cNvGraphicFramePr/>
            <p:nvPr/>
          </p:nvGraphicFramePr>
          <p:xfrm>
            <a:off x="4448160" y="5867280"/>
            <a:ext cx="15717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448160" y="5867280"/>
                      <a:ext cx="15717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"/>
            <p:cNvGraphicFramePr/>
            <p:nvPr/>
          </p:nvGraphicFramePr>
          <p:xfrm>
            <a:off x="6386400" y="5910120"/>
            <a:ext cx="1386000" cy="490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386400" y="5910120"/>
                      <a:ext cx="1386000" cy="4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"/>
            <p:cNvGraphicFramePr/>
            <p:nvPr/>
          </p:nvGraphicFramePr>
          <p:xfrm>
            <a:off x="8077320" y="5643720"/>
            <a:ext cx="990360" cy="757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8077320" y="5643720"/>
                      <a:ext cx="99036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2057400" y="0"/>
            <a:ext cx="5124600" cy="6857640"/>
            <a:chOff x="2057400" y="0"/>
            <a:chExt cx="5124600" cy="6857640"/>
          </a:xfrm>
        </p:grpSpPr>
        <p:graphicFrame>
          <p:nvGraphicFramePr>
            <p:cNvPr id="142" name=""/>
            <p:cNvGraphicFramePr/>
            <p:nvPr/>
          </p:nvGraphicFramePr>
          <p:xfrm>
            <a:off x="2074320" y="3388680"/>
            <a:ext cx="5107320" cy="346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74320" y="3388680"/>
                      <a:ext cx="5107320" cy="346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2057400" y="0"/>
            <a:ext cx="5124600" cy="3436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57400" y="0"/>
                      <a:ext cx="5124600" cy="343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5T19:04:50Z</dcterms:created>
  <dc:creator>Andrea Luswarghi</dc:creator>
  <dc:description/>
  <dc:language>en-US</dc:language>
  <cp:lastModifiedBy>Andrea Luswarghi</cp:lastModifiedBy>
  <dcterms:modified xsi:type="dcterms:W3CDTF">2001-08-06T22:20:28Z</dcterms:modified>
  <cp:revision>36</cp:revision>
  <dc:subject/>
  <dc:title>Apresentação do PowerPoint</dc:title>
</cp:coreProperties>
</file>